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6C9-98F4-46FE-BB2C-F8DCC3D1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C726-0328-4FD0-BC8F-85FD588C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0A1-75CB-471C-A54C-25272030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CA2-E0D1-48A5-A1D2-A9094B4E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E7BE-F7EA-4E90-8668-5DAA4929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00CF-2DDD-4D45-8A0F-DC601B35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EECE-8C13-4445-B84D-E75A73A9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58F-280C-4433-8D9F-7CFF3C7D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673-FA32-42DC-8033-772D025C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353-DA55-4BC4-ADBE-A109ACDB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5B4-D821-49EB-A9A2-9CFAABC7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BB2-8AEE-4B2F-B80D-6CBDC7F3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C301-AE3F-421C-A0B9-36670320D7F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920" y="93600"/>
          <a:ext cx="9036000" cy="6669000"/>
        </p:xfrm>
        <a:graphic>
          <a:graphicData uri="http://schemas.openxmlformats.org/drawingml/2006/table">
            <a:tbl>
              <a:tblPr/>
              <a:tblGrid>
                <a:gridCol w="1517760"/>
                <a:gridCol w="3760560"/>
                <a:gridCol w="3757680"/>
              </a:tblGrid>
              <a:tr h="825480">
                <a:tc gridSpan="3"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20 Junio 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728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H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PON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  a 11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ntarios fina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0  a 11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0  a 12: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torí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. Javier Calleja Olve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00  a 12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rega de consta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usu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d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27:41Z</dcterms:created>
  <dc:creator>Preferred Customer</dc:creator>
  <dc:description/>
  <dc:language>en-US</dc:language>
  <cp:lastModifiedBy>Daffy Duck</cp:lastModifiedBy>
  <cp:lastPrinted>2014-03-06T16:07:21Z</cp:lastPrinted>
  <dcterms:modified xsi:type="dcterms:W3CDTF">2014-06-13T18:14:45Z</dcterms:modified>
  <cp:revision>244</cp:revision>
  <dc:subject/>
  <dc:title>Diapositiva 1</dc:title>
</cp:coreProperties>
</file>