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9DE-3332-4E8F-B180-07D3AE44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9F03-E30A-4313-8ED5-EF753101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F7E-08C9-4D64-AE02-88B76905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55D-2B8C-4125-ACA1-2D42A0F6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3119-0B91-4D33-B435-385C7128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4A2E-E8E7-40DD-8333-9168550C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8A54-D851-45EB-9EE1-EB9BBDC4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30E5-1F8D-4D0A-BF8A-EEF4DB28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377A-8429-4219-A3FF-DA995DAC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6477-583A-463F-AAEA-0540AD5C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A4C1-1754-49C8-B679-B6392D37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2F5-FCED-4F5B-B09E-0212ABA4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82CC-BA3D-4527-AC57-EDC210F0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6B00-A6C0-4E5F-862C-BCAD6E16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6C37-1CFA-4B9F-9265-D30D84F3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D92A-AE74-44EF-83D6-F51E8539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3729-84A3-4695-80C4-B00F7646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6580-2611-453D-9DE5-D219AAE2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F104-65E1-4CAB-9041-EA41926B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C4B1-5AF8-4F40-B6A4-501AB5B6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165E7-8ABC-4B3B-B7DF-BE221BC9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168D7-A76A-40D2-97D8-D8F5F52F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51B-806F-4585-82F2-C7C6807A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C8687-15A0-4374-BE06-366FD213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C540-8C06-46AF-BB1B-F69755E6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76DC-3154-4C7A-B24B-BC9B59E0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60798-F3F9-43D7-95F2-349FE72A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3CDF2-F275-4F47-9C4F-60C326ED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2B36-44BE-4B82-A478-3C1324A1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A6A21-4338-4776-8ECE-B8F22767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A5109-540B-4B46-8D1B-52730675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F9F0B-2A67-4183-AB6B-7A9C5AF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F7F5A-72BD-40DC-B103-888E7052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0C6-9531-4FE2-974C-86114FE0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37DF-4182-46DA-AEC2-7B74E484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249F3-15C7-47BA-8607-0B6EBC08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EE83-0745-4D81-8152-5694E92F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E74E-7EA2-426E-9C0D-CDF7B038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B0203-9870-4665-AC40-DB9894A7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97987-AC7B-4E23-A2B6-32E25113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59E65-5CAA-499B-8FBC-C646B425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FB85D-9ABA-4819-9DA9-271C4576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5BEC9-4673-4102-AC81-EC118193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A8730-30F7-4B5A-91CD-AAA9E220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C5E-2EA8-4265-AB26-0221E073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71BBE-19F6-45E5-B7E5-ACCC1BDD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46CC8-7DE1-4BBC-82B9-3B91611C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CF6E6-E19B-4C5E-B126-23663653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20512-EE95-4C02-9F9F-0BF88AF8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253DE-AEF5-4A98-AFA8-7A02C867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18880-AFB0-4C20-8737-B1082E3C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97B65-63E6-4B20-9FD0-7267D977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6C768-69E6-4652-99AE-E0662F42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2656-26DB-456A-9D8B-4CA01056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42512-B8D0-4E21-B1E7-D0B5DEF5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613-AA7E-4E41-9475-093A17A6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196BB-6393-495B-ACCF-137FB543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7EA-DD5E-43E8-8E64-47611415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C77-82C7-4763-9B82-A80D306C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81F-CF7F-4431-A046-BEE11AE5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8A9D-C73D-4389-A5F5-C5974512A8E3}" type="slidenum">
              <a:rPr b="0" lang="es-C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FD04-B4BB-49CA-BD00-C683E5FC8AE1}" type="slidenum">
              <a:rPr b="0" lang="es-C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7000-F383-438E-83DF-DA78FA4D5F3A}" type="slidenum">
              <a:rPr b="0" lang="es-C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5F37-DB59-471B-858F-4A9D0F98791A}" type="slidenum">
              <a:rPr b="0" lang="es-C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DE2B-EC55-41B2-800C-C947C28B5C46}" type="slidenum">
              <a:rPr b="0" lang="es-C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696464"/>
                </a:solidFill>
                <a:latin typeface="Perpetua"/>
              </a:rPr>
              <a:t>Pedro Khoury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696464"/>
                </a:solidFill>
                <a:latin typeface="Perpetua"/>
              </a:rPr>
              <a:t>Carlos Gulart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696464"/>
                </a:solidFill>
                <a:latin typeface="Perpetua"/>
              </a:rPr>
              <a:t>Josue Lucio Robl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696464"/>
                </a:solidFill>
                <a:latin typeface="Perpetua"/>
              </a:rPr>
              <a:t>Lizeth Bell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696464"/>
                </a:solidFill>
                <a:latin typeface="Perpetua"/>
              </a:rPr>
              <a:t>Flor Murillo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ffffff"/>
                </a:solidFill>
                <a:latin typeface="Franklin Gothic Book"/>
              </a:rPr>
              <a:t>Grupo #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0000"/>
                </a:solidFill>
                <a:latin typeface="Franklin Gothic Book"/>
              </a:rPr>
              <a:t>Problem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000" spc="-1" strike="noStrike">
                <a:solidFill>
                  <a:srgbClr val="000000"/>
                </a:solidFill>
                <a:latin typeface="Perpetua"/>
              </a:rPr>
              <a:t>Escaso reconocimiento de las necesidades de la persona adulta mayor por parte de las instancias Políticas, de gobierno, sociedad civil y comunidad en general, y, en  consecuencia, debilidad para adoptar políticas y programas   para esta población.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3000" spc="-1" strike="noStrike">
                <a:solidFill>
                  <a:srgbClr val="000000"/>
                </a:solidFill>
                <a:latin typeface="Perpetua"/>
              </a:rPr>
              <a:t>Tomando en cuenta el tema de envejecimiento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3000" spc="-1" strike="noStrike">
                <a:solidFill>
                  <a:srgbClr val="000000"/>
                </a:solidFill>
                <a:latin typeface="Perpetua"/>
              </a:rPr>
              <a:t>Ciudades accesibles,  sin barreras arquitectónicas, culturales,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3000" spc="-1" strike="noStrike">
                <a:solidFill>
                  <a:srgbClr val="000000"/>
                </a:solidFill>
                <a:latin typeface="Perpetua"/>
              </a:rPr>
              <a:t>Acceso a programas sociales (Salud, alimentación, 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37240" indent="-237240" algn="just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0000"/>
                </a:solidFill>
                <a:latin typeface="Franklin Gothic Book"/>
              </a:rPr>
              <a:t>Objetiv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R" sz="4000" spc="-1" strike="noStrike">
                <a:solidFill>
                  <a:srgbClr val="000000"/>
                </a:solidFill>
                <a:latin typeface="Perpetua"/>
              </a:rPr>
              <a:t>Lograr que se incluya en las agendas públicas de los países, los aspectos concernientes a la población adultos mayores para mejorar la calidad de vida y bienestar de este grupo poblacional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0000"/>
                </a:solidFill>
                <a:latin typeface="Franklin Gothic Book"/>
              </a:rPr>
              <a:t>Me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Perpetua"/>
              </a:rPr>
              <a:t>Incluir en los Planes de Desarrollo Nacionales así como regionales y planes inter- sectoriales  en cada país, acciones estratégicas e indicadores dirigidos a la atención integral de la población de adultos mayores, acordes con los periodos de gobierno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0000"/>
                </a:solidFill>
                <a:latin typeface="Franklin Gothic Book"/>
              </a:rPr>
              <a:t>Me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s-CR" sz="4000" spc="-1" strike="noStrike">
                <a:solidFill>
                  <a:srgbClr val="000000"/>
                </a:solidFill>
                <a:latin typeface="Perpetua"/>
              </a:rPr>
              <a:t>Documentar las propuestas dirigidas a la población adulta mayor con datos e información aportada por la evidencia científica, periódicamente.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0000"/>
                </a:solidFill>
                <a:latin typeface="Franklin Gothic Book"/>
              </a:rPr>
              <a:t>Actores Sociales relevantes (Primarios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Perpetua"/>
              </a:rPr>
              <a:t>Autoridades gubernamentales (Ministros de salud en primera instancia), Consejos Nacionales de Política económica y Social, de desarrollo o gabinete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Perpetua"/>
              </a:rPr>
              <a:t>Autoridades Regionales y Locales (Gobiernos Locales)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Perpetua"/>
              </a:rPr>
              <a:t>Consejos para la atención de las personas adultas mayore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0000"/>
                </a:solidFill>
                <a:latin typeface="Franklin Gothic Book"/>
              </a:rPr>
              <a:t>Actores Sociales relevantes                       (Secundarios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Perpetua"/>
              </a:rPr>
              <a:t>O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Perpetua"/>
              </a:rPr>
              <a:t>Gremio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Perpetua"/>
              </a:rPr>
              <a:t>Iglesias</a:t>
            </a:r>
            <a:r>
              <a:rPr b="0" lang="es-CR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R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s-CR" sz="32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Perpetua"/>
              </a:rPr>
              <a:t>Sociedad Civi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250920" y="333360"/>
          <a:ext cx="8569080" cy="6264360"/>
        </p:xfrm>
        <a:graphic>
          <a:graphicData uri="http://schemas.openxmlformats.org/drawingml/2006/table">
            <a:tbl>
              <a:tblPr/>
              <a:tblGrid>
                <a:gridCol w="1596960"/>
                <a:gridCol w="1401840"/>
                <a:gridCol w="1558800"/>
                <a:gridCol w="1295280"/>
                <a:gridCol w="1324080"/>
                <a:gridCol w="1392120"/>
              </a:tblGrid>
              <a:tr h="36828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ores prim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372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A)</a:t>
                      </a:r>
                      <a:r>
                        <a:rPr b="0" lang="es-CR" sz="12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Autoridades gubernamentales (Ministros de salud en primera instancia), Consejos Nacionales de Política económica, de desarrollo o gabinet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C.R. Saben del tema, está el tema en el nuevo Plan de gobier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Belice y R. Dominicana, Colombia y Guatemala, saben del tema pero no es prioritario, Falta de interé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C.R sí ha mostrado nivel previo demostrad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R.D, Belice, Guatemala y Colombia; sí han tenido apoyo en administraciones anterior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Los países han tenido distintas posiciones en cuanto al tema, requieren más políticas incluidas en la agenda públic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Existen otras prioridades que se anteponen al tema de adulto may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Mantener un alto grado de popu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916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B) Autoridades Regionales y Locales                   (Gobiernos Locale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Sí lo conocen, pero no muestran interé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Depende de las acciones que le exponga el nivel central o guberna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No se oponen pero se limitan a recibir directrices según los tem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No se manifiestan en contra, pero esperan contenido económico para actú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No los dimensiona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C) Consejos para la atención de las personas adultas mayor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Todos conocen el tema, están involucr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Tienen compromis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No se oponen, son ali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Algunos actores están involucrados por delegación superior y no muestran el compromiso suficiente con el tem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2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El intercambio permite que se despierte el interés por el tem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703520"/>
                <a:gridCol w="1495440"/>
                <a:gridCol w="1663560"/>
                <a:gridCol w="1382760"/>
                <a:gridCol w="1411200"/>
                <a:gridCol w="1487520"/>
              </a:tblGrid>
              <a:tr h="64296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ores relevantes secund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A)</a:t>
                      </a:r>
                      <a:r>
                        <a:rPr b="0" lang="es-CR" sz="1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O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Las ONG conocen el tema y se integ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Sí. Depende de los objetivos y mandatos y competencias. Porque tienen apoyo de los dona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No se oponen por que tienen manda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No se ha  most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Acceso a recursos por medio de don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B)Grem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Generalmente tiene grupos organizados porque muchos son protagonist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Muchos de ellos tienen recursos propios y están organizad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No han mostrado oposición, por el contrario apoyan ac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No se 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Son protagonistas generalm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Cumplen con premisa de responsabilidad so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888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C)Igles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Se involucran en la administración de Hogares, así como atención a personas adultas mayores que lo requie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Siempre han mostrado apo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No se 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No se 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El bien comú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D)Sociedad Civ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Se involucra en la medida que identifiquen protagonismo y benefic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Varía de acuerdo a las ideas plantead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Es variable, depende de los grupos y los benefic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Depende de los que los involucr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400" spc="-1" strike="noStrike">
                          <a:solidFill>
                            <a:srgbClr val="548dd4"/>
                          </a:solidFill>
                          <a:latin typeface="Calibri"/>
                          <a:ea typeface="Calibri"/>
                        </a:rPr>
                        <a:t>Depende si son o no tomados en cuen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8T15:36:18Z</dcterms:created>
  <dc:creator>Flor Murillo</dc:creator>
  <dc:description/>
  <dc:language>en-US</dc:language>
  <cp:lastModifiedBy>Flor Murillo</cp:lastModifiedBy>
  <dcterms:modified xsi:type="dcterms:W3CDTF">2014-06-20T14:31:43Z</dcterms:modified>
  <cp:revision>5</cp:revision>
  <dc:subject/>
  <dc:title>Grupo # 1</dc:title>
</cp:coreProperties>
</file>