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808-532D-457C-B8AC-E258332B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B15-DF57-4464-B0B1-842B3E1A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DDB-C3A8-4098-8FC0-82DDEEDF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01D-5B54-438A-A8DF-F92E094D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2BC-9095-446E-9C82-DAE2B770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68A-9098-4988-978B-13B51964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564-4420-4483-BC1B-926DE0FD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5A8-7AF6-4FCF-BEF0-124C31B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6FB-543A-4366-B7B1-D213699D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473-4DB3-4C31-9A18-478B3E9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D3B-DF22-49C0-80A9-3979D410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427-CA59-4479-B26C-BF200BDE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6E5F-3E9D-4CC8-BE2A-F1C2BD6EA50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0080" y="66600"/>
          <a:ext cx="9001080" cy="6740640"/>
        </p:xfrm>
        <a:graphic>
          <a:graphicData uri="http://schemas.openxmlformats.org/drawingml/2006/table">
            <a:tbl>
              <a:tblPr/>
              <a:tblGrid>
                <a:gridCol w="1511280"/>
                <a:gridCol w="3746520"/>
                <a:gridCol w="3743280"/>
              </a:tblGrid>
              <a:tr h="843120">
                <a:tc gridSpan="3"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19 Junio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PON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 a  1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a a las Instalaciones del TU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. Mariana  Hernández Frago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 a 1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aforma Gerontológ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. Elsa Georgina Aldape Enríqu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. Edgar García Fue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00  a 11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ición de pintur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. Mariana  Hernández Frago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 a 12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idados para personas dependie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. Ariadna Padilla Ro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. Erica Tania Chaparro Gonzál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30 a 1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iv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8:27:41Z</dcterms:created>
  <dc:creator>Preferred Customer</dc:creator>
  <dc:description/>
  <dc:language>en-US</dc:language>
  <cp:lastModifiedBy>Daffy Duck</cp:lastModifiedBy>
  <cp:lastPrinted>2014-03-06T16:07:21Z</cp:lastPrinted>
  <dcterms:modified xsi:type="dcterms:W3CDTF">2014-06-13T18:13:28Z</dcterms:modified>
  <cp:revision>245</cp:revision>
  <dc:subject/>
  <dc:title>Diapositiva 1</dc:title>
</cp:coreProperties>
</file>