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854-1950-4D51-97FB-003B462228F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0B9-F57A-4C34-BE8A-EAAD16207A3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1F9-DFC9-43CF-B745-26275A0D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66B-9E62-476A-9A40-FB0AE61E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059-44F3-4BE3-B149-05FAB2D6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841-0E0A-4801-84CA-96D9152C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41D1-086B-4718-AF90-E4995D8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71C-EA43-4349-BAC1-8CBE3FE6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F41-679F-448D-B945-2264565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AAB-F1D8-4067-839D-0AF572FB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891-C105-4F22-9542-587777D2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B70-45C0-434F-84BB-19AAC3C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656-8008-4AB8-AF13-4D64ABF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931-4139-47BD-A1CC-CDF23F0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5954-5133-47EE-9C5E-EB146BF2B92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2 CuadroTexto"/>
          <p:cNvSpPr/>
          <p:nvPr/>
        </p:nvSpPr>
        <p:spPr>
          <a:xfrm>
            <a:off x="179280" y="692280"/>
            <a:ext cx="394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11280" y="485640"/>
            <a:ext cx="416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  <a:tab algn="l" pos="7634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ekaSans-Medium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  <a:tab algn="l" pos="7634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703440"/>
            <a:ext cx="420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9124920" cy="6742080"/>
        </p:xfrm>
        <a:graphic>
          <a:graphicData uri="http://schemas.openxmlformats.org/drawingml/2006/table">
            <a:tbl>
              <a:tblPr/>
              <a:tblGrid>
                <a:gridCol w="1531800"/>
                <a:gridCol w="3799080"/>
                <a:gridCol w="3794040"/>
              </a:tblGrid>
              <a:tr h="995400">
                <a:tc gridSpan="3"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18 Junio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5080">
                <a:tc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PON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1338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 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 “Como influir en la toma de decisiones y el desarrollo de las políticas de salud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María Esther Lozano Dávi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 a 11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 a 11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úa Taller  “Como influir en la toma de decisiones y el desarrollo de las políticas de salud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María Esther Lozano Dávi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00 a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para conocer similitudes y discrepancias en los programas existentes en la reg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Araceli Arévalo Balle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27:41Z</dcterms:created>
  <dc:creator>Preferred Customer</dc:creator>
  <dc:description/>
  <dc:language>en-US</dc:language>
  <cp:lastModifiedBy>Daffy Duck</cp:lastModifiedBy>
  <cp:lastPrinted>2014-03-06T16:07:21Z</cp:lastPrinted>
  <dcterms:modified xsi:type="dcterms:W3CDTF">2014-06-13T18:11:55Z</dcterms:modified>
  <cp:revision>244</cp:revision>
  <dc:subject/>
  <dc:title>Diapositiva 1</dc:title>
</cp:coreProperties>
</file>