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C9C1-63E5-45C7-9C7E-0ACA3083DA7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676C-EBAC-49DE-8BF0-BD856B2B459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ncinos No.41, Col. Miguel Hidalgo 4ta Secc. C.P. 142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Delegación Tlalpan ,Tel. 51   32 12 00  Ext. 7115, 7116, 7113 y 71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E401-B3AA-4971-9F40-34C1C0CB6C6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ncinos No.41, Col. Miguel Hidalgo 4ta Secc. C.P. 142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Delegación Tlalpan ,Tel. 51   32 12 00  Ext. 7115, 7116, 7113 y 71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3C15-96DB-42B7-BE3E-53E36A6137B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ncinos No.41, Col. Miguel Hidalgo 4ta Secc. C.P. 142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Delegación Tlalpan ,Tel. 51   32 12 00  Ext. 7115, 7116, 7113 y 71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0CDB-D5D8-4DEC-A276-349AFAC6237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ncinos No.41, Col. Miguel Hidalgo 4ta Secc. C.P. 142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Delegación Tlalpan ,Tel. 51   32 12 00  Ext. 7115, 7116, 7113 y 71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6F2D-B012-4496-B663-7FD8D4C0A26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ncinos No.41, Col. Miguel Hidalgo 4ta Secc. C.P. 142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Delegación Tlalpan ,Tel. 51   32 12 00  Ext. 7115, 7116, 7113 y 71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5B22-3225-4228-8BA2-985DFBBDA86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2817-8898-499F-94F6-D0103F56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C661-C8DF-40FF-A318-0F7866F2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2D11-7E7E-4B83-889C-901FD1B3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8D41-A4B1-4DB5-983F-231B536B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AB8D-B185-493D-AB0B-E153C874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8DFC-C33A-4342-96E2-03D0805F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7B05-228D-4C45-8799-274C29C8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280B-483C-4044-9A00-156DC693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ABA5-E6AE-4442-9015-EE12D585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4BC1-26AF-4269-91EA-067EB1E6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12E1-EB4A-48BC-82D2-A2583410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CA30-72A8-4D9B-9A5D-8F37439C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50CA-A431-4729-ADDE-9433625B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1EF5-7ADF-4B6C-8F8E-479C0494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DB2E-37FB-4967-BF43-B8D707A8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9526-AA0C-4B97-B0F4-96CB99E9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D849-DDBD-445C-933C-A9843D20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EFDE-95C8-4161-BF06-A2725FE7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E211-7848-4338-A201-72F82B80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7CA1-E328-4811-9B45-C7A2B37E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E674-9AB0-4834-B53E-65A20875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1301-E010-4962-983A-63132F8A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96B9-2D46-4BB5-BB2E-8945D63C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8A15-6F32-4554-807C-643B553D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640D-E8FB-4C14-B517-7A01632AABE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Título"/>
          <p:cNvSpPr/>
          <p:nvPr/>
        </p:nvSpPr>
        <p:spPr>
          <a:xfrm>
            <a:off x="2286000" y="357120"/>
            <a:ext cx="654372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badi MT Condensed"/>
              </a:rPr>
              <a:t>Hospital General Ajusco Medio</a:t>
            </a:r>
            <a:br>
              <a:rPr sz="2200"/>
            </a:br>
            <a:r>
              <a:rPr b="0" lang="es-MX" sz="1600" spc="-1" strike="noStrike">
                <a:solidFill>
                  <a:srgbClr val="000000"/>
                </a:solidFill>
                <a:latin typeface="Abadi MT Condensed"/>
              </a:rPr>
              <a:t>“Dra. Obdulia Rodríguez Rodríguez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2428920" y="1000080"/>
            <a:ext cx="607212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5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1828800" cy="685800"/>
          </a:xfrm>
          <a:prstGeom prst="rect">
            <a:avLst/>
          </a:prstGeom>
          <a:ln w="0">
            <a:noFill/>
          </a:ln>
        </p:spPr>
      </p:pic>
      <p:pic>
        <p:nvPicPr>
          <p:cNvPr id="44" name="11 Imagen" descr="membrete Salud"/>
          <p:cNvPicPr/>
          <p:nvPr/>
        </p:nvPicPr>
        <p:blipFill>
          <a:blip r:embed="rId3"/>
          <a:srcRect l="0" t="0" r="52560" b="0"/>
          <a:stretch/>
        </p:blipFill>
        <p:spPr>
          <a:xfrm>
            <a:off x="314280" y="6207120"/>
            <a:ext cx="646200" cy="650880"/>
          </a:xfrm>
          <a:prstGeom prst="rect">
            <a:avLst/>
          </a:prstGeom>
          <a:ln w="0">
            <a:noFill/>
          </a:ln>
        </p:spPr>
      </p:pic>
      <p:pic>
        <p:nvPicPr>
          <p:cNvPr id="45" name="11 Imagen" descr="membrete Salud"/>
          <p:cNvPicPr/>
          <p:nvPr/>
        </p:nvPicPr>
        <p:blipFill>
          <a:blip r:embed="rId4"/>
          <a:srcRect l="60421" t="18001" r="0" b="0"/>
          <a:stretch/>
        </p:blipFill>
        <p:spPr>
          <a:xfrm>
            <a:off x="8174160" y="6207120"/>
            <a:ext cx="655560" cy="650880"/>
          </a:xfrm>
          <a:prstGeom prst="rect">
            <a:avLst/>
          </a:prstGeom>
          <a:ln w="0">
            <a:noFill/>
          </a:ln>
        </p:spPr>
      </p:pic>
      <p:sp>
        <p:nvSpPr>
          <p:cNvPr id="46" name="11 Conector recto"/>
          <p:cNvSpPr/>
          <p:nvPr/>
        </p:nvSpPr>
        <p:spPr>
          <a:xfrm>
            <a:off x="285840" y="6143760"/>
            <a:ext cx="857232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7A7C-60FE-4626-BD4C-6B49DEAD313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10 Rectángulo" descr=""/>
          <p:cNvPicPr/>
          <p:nvPr/>
        </p:nvPicPr>
        <p:blipFill>
          <a:blip r:embed="rId1"/>
          <a:stretch/>
        </p:blipFill>
        <p:spPr>
          <a:xfrm>
            <a:off x="585720" y="1152360"/>
            <a:ext cx="7972560" cy="209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K:\FOTOS AJUSCO MEDIO\102MSDCF\DSC02094.JPG"/>
          <p:cNvPicPr/>
          <p:nvPr/>
        </p:nvPicPr>
        <p:blipFill>
          <a:blip r:embed="rId2"/>
          <a:stretch/>
        </p:blipFill>
        <p:spPr>
          <a:xfrm>
            <a:off x="2444760" y="3097080"/>
            <a:ext cx="4254480" cy="3218040"/>
          </a:xfrm>
          <a:prstGeom prst="rect">
            <a:avLst/>
          </a:prstGeom>
          <a:ln w="0">
            <a:noFill/>
          </a:ln>
        </p:spPr>
      </p:pic>
      <p:sp>
        <p:nvSpPr>
          <p:cNvPr id="97" name="12 Rectángulo"/>
          <p:cNvSpPr/>
          <p:nvPr/>
        </p:nvSpPr>
        <p:spPr>
          <a:xfrm>
            <a:off x="3522960" y="634536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17 de Junio del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28760" y="2071800"/>
            <a:ext cx="8286480" cy="36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Promedio esperanza de vida en principales ciudades*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1930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 34 años (menor en áreas rural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Hace 30 años, las áreas periféricas del DF no contaban con servicios públicos,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 alto índice de mortalidad infant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Sensibilización a autoridades política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Creación de hospitales para la población de este grupo de ed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Implementación de servicios de drenaje, luz, agua,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Acciones preventivas de educación para la salu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15 Rectángulo" descr=""/>
          <p:cNvPicPr/>
          <p:nvPr/>
        </p:nvPicPr>
        <p:blipFill>
          <a:blip r:embed="rId1"/>
          <a:stretch/>
        </p:blipFill>
        <p:spPr>
          <a:xfrm>
            <a:off x="2975040" y="1090440"/>
            <a:ext cx="3206520" cy="702000"/>
          </a:xfrm>
          <a:prstGeom prst="rect">
            <a:avLst/>
          </a:prstGeom>
          <a:ln w="0">
            <a:noFill/>
          </a:ln>
        </p:spPr>
      </p:pic>
      <p:sp>
        <p:nvSpPr>
          <p:cNvPr id="100" name="13 Rectángulo"/>
          <p:cNvSpPr/>
          <p:nvPr/>
        </p:nvSpPr>
        <p:spPr>
          <a:xfrm>
            <a:off x="1105200" y="6286680"/>
            <a:ext cx="107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badi MT Condensed"/>
              </a:rPr>
              <a:t>*Fuente: INEG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28760" y="2071800"/>
            <a:ext cx="8286480" cy="36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Transformación panorama epidemiológic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Prolongación esperanza de vida (2010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 75 años)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Disminución enfermedades infeccios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Incremento considerable enfermedades crónico degenerativas, sobretodo en adultos mayo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Aumento en demanda de servicios para adultos mayores en todos los niveles de atención (días cama, medicamentos e insumos, personal de apoyo y especializado, etc.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15 Rectángulo" descr=""/>
          <p:cNvPicPr/>
          <p:nvPr/>
        </p:nvPicPr>
        <p:blipFill>
          <a:blip r:embed="rId1"/>
          <a:stretch/>
        </p:blipFill>
        <p:spPr>
          <a:xfrm>
            <a:off x="2975040" y="1090440"/>
            <a:ext cx="3206520" cy="702000"/>
          </a:xfrm>
          <a:prstGeom prst="rect">
            <a:avLst/>
          </a:prstGeom>
          <a:ln w="0">
            <a:noFill/>
          </a:ln>
        </p:spPr>
      </p:pic>
      <p:sp>
        <p:nvSpPr>
          <p:cNvPr id="103" name="13 Rectángulo"/>
          <p:cNvSpPr/>
          <p:nvPr/>
        </p:nvSpPr>
        <p:spPr>
          <a:xfrm>
            <a:off x="1105200" y="6286680"/>
            <a:ext cx="107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badi MT Condensed"/>
              </a:rPr>
              <a:t>*Fuente: INEG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28760" y="2071800"/>
            <a:ext cx="8286480" cy="36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Modificación de pirámide poblacional (reducción de base, aumento de vértic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Protección de personal asalariado y familiares por instituciones de seguridad soci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Población abierta desprotegi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creación de “gratuidad” para los habitantes del D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implementación de “seguro popular” a nivel fede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No siempre se cuenta con medicamentos e insumos suficien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15 Rectángulo" descr=""/>
          <p:cNvPicPr/>
          <p:nvPr/>
        </p:nvPicPr>
        <p:blipFill>
          <a:blip r:embed="rId1"/>
          <a:stretch/>
        </p:blipFill>
        <p:spPr>
          <a:xfrm>
            <a:off x="2981160" y="1090440"/>
            <a:ext cx="3700800" cy="7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47 Rectángulo"/>
          <p:cNvSpPr/>
          <p:nvPr/>
        </p:nvSpPr>
        <p:spPr>
          <a:xfrm>
            <a:off x="8001000" y="6429240"/>
            <a:ext cx="114300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15 Rectángulo" descr=""/>
          <p:cNvPicPr/>
          <p:nvPr/>
        </p:nvPicPr>
        <p:blipFill>
          <a:blip r:embed="rId1"/>
          <a:stretch/>
        </p:blipFill>
        <p:spPr>
          <a:xfrm>
            <a:off x="1584360" y="1090440"/>
            <a:ext cx="5992920" cy="1195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https://encrypted-tbn3.gstatic.com/images?q=tbn:ANd9GcTgGVEOyNDcq6kGF4cndb2p2NCF1mVf-IGqcfzfsjXe5XddIKjfjg"/>
          <p:cNvPicPr/>
          <p:nvPr/>
        </p:nvPicPr>
        <p:blipFill>
          <a:blip r:embed="rId2"/>
          <a:srcRect l="33487" t="0" r="33037" b="0"/>
          <a:stretch/>
        </p:blipFill>
        <p:spPr>
          <a:xfrm>
            <a:off x="231840" y="3429000"/>
            <a:ext cx="1071360" cy="142884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7"/>
          <p:cNvSpPr/>
          <p:nvPr/>
        </p:nvSpPr>
        <p:spPr>
          <a:xfrm>
            <a:off x="120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9"/>
          <p:cNvSpPr/>
          <p:nvPr/>
        </p:nvSpPr>
        <p:spPr>
          <a:xfrm>
            <a:off x="120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16 Diagrama" descr=""/>
          <p:cNvPicPr/>
          <p:nvPr/>
        </p:nvPicPr>
        <p:blipFill>
          <a:blip r:embed="rId3"/>
          <a:stretch/>
        </p:blipFill>
        <p:spPr>
          <a:xfrm>
            <a:off x="2048040" y="2627280"/>
            <a:ext cx="3225600" cy="3694320"/>
          </a:xfrm>
          <a:prstGeom prst="rect">
            <a:avLst/>
          </a:prstGeom>
          <a:ln w="0">
            <a:noFill/>
          </a:ln>
        </p:spPr>
      </p:pic>
      <p:sp>
        <p:nvSpPr>
          <p:cNvPr id="112" name="19 Abrir llave"/>
          <p:cNvSpPr/>
          <p:nvPr/>
        </p:nvSpPr>
        <p:spPr>
          <a:xfrm>
            <a:off x="1535040" y="2571840"/>
            <a:ext cx="285840" cy="350028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3500280"/>
              <a:gd name="textAreaBottom" fmla="*/ 3493080 h 35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4"/>
                  <a:pt x="10800" y="147"/>
                </a:cubicBezTo>
                <a:lnTo>
                  <a:pt x="10800" y="10653"/>
                </a:lnTo>
                <a:cubicBezTo>
                  <a:pt x="10800" y="10727"/>
                  <a:pt x="5400" y="10800"/>
                  <a:pt x="0" y="10800"/>
                </a:cubicBezTo>
                <a:cubicBezTo>
                  <a:pt x="5400" y="10800"/>
                  <a:pt x="10800" y="10874"/>
                  <a:pt x="10800" y="10947"/>
                </a:cubicBezTo>
                <a:lnTo>
                  <a:pt x="10800" y="21453"/>
                </a:lnTo>
                <a:cubicBezTo>
                  <a:pt x="10800" y="2152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0 Abrir llave"/>
          <p:cNvSpPr/>
          <p:nvPr/>
        </p:nvSpPr>
        <p:spPr>
          <a:xfrm>
            <a:off x="5497560" y="2500200"/>
            <a:ext cx="357120" cy="42148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4214880"/>
              <a:gd name="textAreaBottom" fmla="*/ 4205880 h 421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"/>
                  <a:pt x="10800" y="153"/>
                </a:cubicBezTo>
                <a:lnTo>
                  <a:pt x="10800" y="10647"/>
                </a:lnTo>
                <a:cubicBezTo>
                  <a:pt x="10800" y="10724"/>
                  <a:pt x="5400" y="10800"/>
                  <a:pt x="0" y="10800"/>
                </a:cubicBezTo>
                <a:cubicBezTo>
                  <a:pt x="5400" y="10800"/>
                  <a:pt x="10800" y="10877"/>
                  <a:pt x="10800" y="10953"/>
                </a:cubicBezTo>
                <a:lnTo>
                  <a:pt x="10800" y="21447"/>
                </a:lnTo>
                <a:cubicBezTo>
                  <a:pt x="10800" y="2152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46 Grupo"/>
          <p:cNvGrpSpPr/>
          <p:nvPr/>
        </p:nvGrpSpPr>
        <p:grpSpPr>
          <a:xfrm>
            <a:off x="6086520" y="2428920"/>
            <a:ext cx="2825640" cy="4441680"/>
            <a:chOff x="6086520" y="2428920"/>
            <a:chExt cx="2825640" cy="4441680"/>
          </a:xfrm>
        </p:grpSpPr>
        <p:grpSp>
          <p:nvGrpSpPr>
            <p:cNvPr id="115" name="45 Grupo"/>
            <p:cNvGrpSpPr/>
            <p:nvPr/>
          </p:nvGrpSpPr>
          <p:grpSpPr>
            <a:xfrm>
              <a:off x="6104160" y="2428920"/>
              <a:ext cx="2790000" cy="880920"/>
              <a:chOff x="6104160" y="2428920"/>
              <a:chExt cx="2790000" cy="880920"/>
            </a:xfrm>
          </p:grpSpPr>
          <p:sp>
            <p:nvSpPr>
              <p:cNvPr id="116" name="21 Elipse"/>
              <p:cNvSpPr/>
              <p:nvPr/>
            </p:nvSpPr>
            <p:spPr>
              <a:xfrm>
                <a:off x="6104160" y="2428920"/>
                <a:ext cx="890280" cy="88092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Pentágono 4"/>
              <p:cNvSpPr/>
              <p:nvPr/>
            </p:nvSpPr>
            <p:spPr>
              <a:xfrm>
                <a:off x="7086600" y="2541600"/>
                <a:ext cx="1807560" cy="6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9080" rIns="128160" tIns="68760" bIns="687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sul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44 Grupo"/>
            <p:cNvGrpSpPr/>
            <p:nvPr/>
          </p:nvGrpSpPr>
          <p:grpSpPr>
            <a:xfrm>
              <a:off x="6104160" y="3318840"/>
              <a:ext cx="2790000" cy="880920"/>
              <a:chOff x="6104160" y="3318840"/>
              <a:chExt cx="2790000" cy="880920"/>
            </a:xfrm>
          </p:grpSpPr>
          <p:sp>
            <p:nvSpPr>
              <p:cNvPr id="119" name="22 Elipse"/>
              <p:cNvSpPr/>
              <p:nvPr/>
            </p:nvSpPr>
            <p:spPr>
              <a:xfrm>
                <a:off x="6104160" y="3318840"/>
                <a:ext cx="890280" cy="88092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Pentágono 6"/>
              <p:cNvSpPr/>
              <p:nvPr/>
            </p:nvSpPr>
            <p:spPr>
              <a:xfrm>
                <a:off x="7086600" y="3431520"/>
                <a:ext cx="1807560" cy="6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9080" rIns="128160" tIns="68760" bIns="687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rgenci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43 Grupo"/>
            <p:cNvGrpSpPr/>
            <p:nvPr/>
          </p:nvGrpSpPr>
          <p:grpSpPr>
            <a:xfrm>
              <a:off x="6086520" y="4209120"/>
              <a:ext cx="2825640" cy="880920"/>
              <a:chOff x="6086520" y="4209120"/>
              <a:chExt cx="2825640" cy="880920"/>
            </a:xfrm>
          </p:grpSpPr>
          <p:sp>
            <p:nvSpPr>
              <p:cNvPr id="122" name="23 Elipse"/>
              <p:cNvSpPr/>
              <p:nvPr/>
            </p:nvSpPr>
            <p:spPr>
              <a:xfrm>
                <a:off x="6086520" y="4209120"/>
                <a:ext cx="890640" cy="88092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Pentágono 8"/>
              <p:cNvSpPr/>
              <p:nvPr/>
            </p:nvSpPr>
            <p:spPr>
              <a:xfrm>
                <a:off x="7034040" y="4321800"/>
                <a:ext cx="1878120" cy="65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9080" rIns="128160" tIns="68760" bIns="687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ternamien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42 Grupo"/>
            <p:cNvGrpSpPr/>
            <p:nvPr/>
          </p:nvGrpSpPr>
          <p:grpSpPr>
            <a:xfrm>
              <a:off x="6104160" y="5099400"/>
              <a:ext cx="2790000" cy="880920"/>
              <a:chOff x="6104160" y="5099400"/>
              <a:chExt cx="2790000" cy="880920"/>
            </a:xfrm>
          </p:grpSpPr>
          <p:sp>
            <p:nvSpPr>
              <p:cNvPr id="125" name="24 Elipse"/>
              <p:cNvSpPr/>
              <p:nvPr/>
            </p:nvSpPr>
            <p:spPr>
              <a:xfrm>
                <a:off x="6104160" y="5099400"/>
                <a:ext cx="890280" cy="88092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Pentágono 10"/>
              <p:cNvSpPr/>
              <p:nvPr/>
            </p:nvSpPr>
            <p:spPr>
              <a:xfrm>
                <a:off x="7086600" y="5212080"/>
                <a:ext cx="1807560" cy="6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9080" rIns="128160" tIns="68760" bIns="687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irugí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41 Grupo"/>
            <p:cNvGrpSpPr/>
            <p:nvPr/>
          </p:nvGrpSpPr>
          <p:grpSpPr>
            <a:xfrm>
              <a:off x="6104160" y="5989680"/>
              <a:ext cx="2790000" cy="880920"/>
              <a:chOff x="6104160" y="5989680"/>
              <a:chExt cx="2790000" cy="880920"/>
            </a:xfrm>
          </p:grpSpPr>
          <p:sp>
            <p:nvSpPr>
              <p:cNvPr id="128" name="25 Elipse"/>
              <p:cNvSpPr/>
              <p:nvPr/>
            </p:nvSpPr>
            <p:spPr>
              <a:xfrm>
                <a:off x="6104160" y="5989680"/>
                <a:ext cx="890280" cy="88092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Pentágono 12"/>
              <p:cNvSpPr/>
              <p:nvPr/>
            </p:nvSpPr>
            <p:spPr>
              <a:xfrm>
                <a:off x="7086600" y="6102360"/>
                <a:ext cx="180756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9080" rIns="128160" tIns="68760" bIns="687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rapia Intensiv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15 Rectángulo" descr=""/>
          <p:cNvPicPr/>
          <p:nvPr/>
        </p:nvPicPr>
        <p:blipFill>
          <a:blip r:embed="rId1"/>
          <a:stretch/>
        </p:blipFill>
        <p:spPr>
          <a:xfrm>
            <a:off x="1743120" y="1090440"/>
            <a:ext cx="5657760" cy="119556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7"/>
          <p:cNvSpPr/>
          <p:nvPr/>
        </p:nvSpPr>
        <p:spPr>
          <a:xfrm>
            <a:off x="120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120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1 Marcador de contenido"/>
          <p:cNvSpPr/>
          <p:nvPr/>
        </p:nvSpPr>
        <p:spPr>
          <a:xfrm>
            <a:off x="428760" y="2360520"/>
            <a:ext cx="8286480" cy="364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Identificación correcta del pac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Higiene de ma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Prevención 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Infecciones por accidentes vascu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Infecciones por sondas de Fo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Heri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Úlceras por pre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Caí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Medicamentos, dosis y horarios corr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Verificación fecha de caducidad de medicam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Vía de administración cor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Cirugía seg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Correcto manejo de RP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28 Abrir llave"/>
          <p:cNvSpPr/>
          <p:nvPr/>
        </p:nvSpPr>
        <p:spPr>
          <a:xfrm flipH="1">
            <a:off x="5497560" y="2292480"/>
            <a:ext cx="357120" cy="3779640"/>
          </a:xfrm>
          <a:custGeom>
            <a:avLst/>
            <a:gdLst>
              <a:gd name="textAreaLeft" fmla="*/ 228600 w 357120"/>
              <a:gd name="textAreaRight" fmla="*/ 357840 w 357120"/>
              <a:gd name="textAreaTop" fmla="*/ 9000 h 3779640"/>
              <a:gd name="textAreaBottom" fmla="*/ 3770640 h 37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"/>
                  <a:pt x="10800" y="170"/>
                </a:cubicBezTo>
                <a:lnTo>
                  <a:pt x="10800" y="10630"/>
                </a:lnTo>
                <a:cubicBezTo>
                  <a:pt x="10800" y="10715"/>
                  <a:pt x="5400" y="10800"/>
                  <a:pt x="0" y="10800"/>
                </a:cubicBezTo>
                <a:cubicBezTo>
                  <a:pt x="5400" y="10800"/>
                  <a:pt x="10800" y="10885"/>
                  <a:pt x="10800" y="10970"/>
                </a:cubicBezTo>
                <a:lnTo>
                  <a:pt x="10800" y="21430"/>
                </a:lnTo>
                <a:cubicBezTo>
                  <a:pt x="10800" y="2151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33 Grupo"/>
          <p:cNvGrpSpPr/>
          <p:nvPr/>
        </p:nvGrpSpPr>
        <p:grpSpPr>
          <a:xfrm>
            <a:off x="6072120" y="2959200"/>
            <a:ext cx="2071800" cy="2446200"/>
            <a:chOff x="6072120" y="2959200"/>
            <a:chExt cx="2071800" cy="2446200"/>
          </a:xfrm>
        </p:grpSpPr>
        <p:sp>
          <p:nvSpPr>
            <p:cNvPr id="136" name="Pentágono 6"/>
            <p:cNvSpPr/>
            <p:nvPr/>
          </p:nvSpPr>
          <p:spPr>
            <a:xfrm>
              <a:off x="6305400" y="4768200"/>
              <a:ext cx="16610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9080" rIns="1281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badi MT Condensed"/>
                </a:rPr>
                <a:t>Trato Dig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Picture 3" descr="E:\HGAM\DSCF2427.JPG"/>
            <p:cNvPicPr/>
            <p:nvPr/>
          </p:nvPicPr>
          <p:blipFill>
            <a:blip r:embed="rId2"/>
            <a:stretch/>
          </p:blipFill>
          <p:spPr>
            <a:xfrm>
              <a:off x="6072120" y="2959200"/>
              <a:ext cx="2071800" cy="1932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1 Rectángulo" descr=""/>
          <p:cNvPicPr/>
          <p:nvPr/>
        </p:nvPicPr>
        <p:blipFill>
          <a:blip r:embed="rId1"/>
          <a:stretch/>
        </p:blipFill>
        <p:spPr>
          <a:xfrm>
            <a:off x="1743120" y="1090440"/>
            <a:ext cx="5657760" cy="702000"/>
          </a:xfrm>
          <a:prstGeom prst="rect">
            <a:avLst/>
          </a:prstGeom>
          <a:ln w="0">
            <a:noFill/>
          </a:ln>
        </p:spPr>
      </p:pic>
      <p:sp>
        <p:nvSpPr>
          <p:cNvPr id="139" name="11 Marcador de contenido"/>
          <p:cNvSpPr/>
          <p:nvPr/>
        </p:nvSpPr>
        <p:spPr>
          <a:xfrm>
            <a:off x="428760" y="2000160"/>
            <a:ext cx="8286480" cy="364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Plantilla médica de atención geriátrica y apoyo tanatológico en todos los hospitales de segundo ni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Procurar una cultura de alimentación adecuada para prevención de obesidad, HTA, y enfermedades relacionadas (a nivel local, estatal y feder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Educar a la población a brindar un trato digno a los adultos may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Capacitar a familiares y cuidadores sobre primeros auxilios, e higiene, prevención de caídas, quemaduras, desnutrición, etc., brindándoles además apoyo psicológico y psiquiátr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Mayor coordinación con las unidades de primer nivel para la atención y seguimiento a nivel domicili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badi MT Condensed"/>
              </a:rPr>
              <a:t>Aplicación real de políticas, leyes y reglamentos de protección a los adultos may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1 Rectángulo" descr=""/>
          <p:cNvPicPr/>
          <p:nvPr/>
        </p:nvPicPr>
        <p:blipFill>
          <a:blip r:embed="rId1"/>
          <a:stretch/>
        </p:blipFill>
        <p:spPr>
          <a:xfrm>
            <a:off x="1743120" y="3024360"/>
            <a:ext cx="565776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8:03:19Z</dcterms:created>
  <dc:creator>Enrique Yañez Puig</dc:creator>
  <dc:description/>
  <dc:language>en-US</dc:language>
  <cp:lastModifiedBy>crobertterrones</cp:lastModifiedBy>
  <dcterms:modified xsi:type="dcterms:W3CDTF">2014-06-17T01:31:23Z</dcterms:modified>
  <cp:revision>231</cp:revision>
  <dc:subject/>
  <dc:title>Hospital General Ajusco Medio “Dra. Obdulia Rodríguez Rodríguez</dc:title>
</cp:coreProperties>
</file>