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8EEA-F66C-4A0B-AB7B-D0BD7F3B4E8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3 Marcador de número de diapositiva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905F-3432-46D7-8944-FFE08FCCB3E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832-DEA9-4E6E-AD7D-21A30C13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AE7-0D3F-44AE-B11A-6B307AD2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C4F5-72AD-420E-83A6-333C5183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E184-71B4-4E32-9E50-BA22B412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6B24-3066-4517-B237-1AF1DBAF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C5F-23B7-4223-BDCA-6766E90B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059-2340-4880-8003-2CC45B82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AC22-61FD-4389-9BA3-A7C397AD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4E5-4871-4792-BEB8-D9AF6207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4155-65F4-4BBB-878A-EA8CCC31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9F43-8701-4530-91DA-7BB22109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5AF-CBAE-4D98-8BBA-B935BA86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EBA3-2C5A-4F25-A5D5-706B37AAED4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2 CuadroTexto"/>
          <p:cNvSpPr/>
          <p:nvPr/>
        </p:nvSpPr>
        <p:spPr>
          <a:xfrm>
            <a:off x="179280" y="692280"/>
            <a:ext cx="394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611280" y="485640"/>
            <a:ext cx="4168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  <a:tab algn="l" pos="7634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EurekaSans-Medium"/>
              <a:buChar char="•"/>
              <a:tabLst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  <a:tab algn="l" pos="7634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50920" y="703440"/>
            <a:ext cx="4203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71280"/>
          <a:ext cx="9124920" cy="6742440"/>
        </p:xfrm>
        <a:graphic>
          <a:graphicData uri="http://schemas.openxmlformats.org/drawingml/2006/table">
            <a:tbl>
              <a:tblPr/>
              <a:tblGrid>
                <a:gridCol w="1531800"/>
                <a:gridCol w="3799080"/>
                <a:gridCol w="3794040"/>
              </a:tblGrid>
              <a:tr h="533520">
                <a:tc gridSpan="3">
                  <a:txBody>
                    <a:bodyPr lIns="68400" rIns="684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Soberana Sans"/>
                          <a:ea typeface="Arial"/>
                        </a:rPr>
                        <a:t>17  Junio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lIns="68400" rIns="684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Soberana Sans"/>
                          <a:ea typeface="Arial"/>
                        </a:rPr>
                        <a:t>H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Soberana Sans"/>
                          <a:ea typeface="Arial"/>
                        </a:rPr>
                        <a:t>T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Soberana Sans"/>
                          <a:ea typeface="Arial"/>
                        </a:rPr>
                        <a:t>PON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27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00 a10: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os de Atención en Centroaméric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, Costa Rica, Guatemala, Panamá y República Dominicana, Bel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  Lic. Gloria Vargas Esquiv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10 a 11: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a redonda “Experiencia pública y privada en la elaboración de política en salud en el seno del CONAEN”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. Lilia Berthely Jiménez, Dra. Obdulia Rodríguez  R., Dr. Luis M. Gutiérrez  R., Dra. Cecilia Roberts Terr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 Dra. María Esther Lozano Dávi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10 a 11: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40  a12: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 de investigación SAB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. María Esther Lozano Dávi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:20 a 14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s de Dat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. Rogelio Archundia Gonzále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:00 a 15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mercadotecnia para generar política en salud tomando como base la evidencia científ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. Erica T. Chaparro Gonzále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8:27:41Z</dcterms:created>
  <dc:creator>Preferred Customer</dc:creator>
  <dc:description/>
  <dc:language>en-US</dc:language>
  <cp:lastModifiedBy>Daffy Duck</cp:lastModifiedBy>
  <cp:lastPrinted>2014-03-06T16:07:21Z</cp:lastPrinted>
  <dcterms:modified xsi:type="dcterms:W3CDTF">2014-06-13T18:10:59Z</dcterms:modified>
  <cp:revision>244</cp:revision>
  <dc:subject/>
  <dc:title>Diapositiva 1</dc:title>
</cp:coreProperties>
</file>