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0000" cy="930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200" y="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400" y="698040"/>
            <a:ext cx="4651200" cy="348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20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E31E-F24C-4691-864F-A4A0C221C9C4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1200" cy="34894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01640" y="4419360"/>
            <a:ext cx="56167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3 Marcador de número de diapositiva"/>
          <p:cNvSpPr/>
          <p:nvPr/>
        </p:nvSpPr>
        <p:spPr>
          <a:xfrm>
            <a:off x="3976560" y="8839080"/>
            <a:ext cx="30416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BE0F-C797-4A88-B2AB-DF5866CF6E29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5265-91BD-4900-AFA4-1EC0027F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086-19A9-4D26-BCAF-2365DF3F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345-B872-47C5-A849-55FC1119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ED36-4EED-4C23-9356-4A402B6B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8CB-BB7B-499B-8A12-57EC4646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232A-A88B-4196-AAF2-813DB639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9A8E-4DE0-49E7-A5A6-72B740FC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9BF-960F-4889-A974-B68F8D84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D97A-D6DE-49FC-BCB7-A815C4A3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2A51-3A42-4155-9E7C-05A2457E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1D9-D3FB-42B4-A93E-63F7C301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313-84DF-4748-99AB-7BB4F727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2F76-EF38-4595-95FC-6B6C1FC6BE27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12 CuadroTexto"/>
          <p:cNvSpPr/>
          <p:nvPr/>
        </p:nvSpPr>
        <p:spPr>
          <a:xfrm>
            <a:off x="179280" y="692280"/>
            <a:ext cx="3949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611280" y="485640"/>
            <a:ext cx="416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  <a:tab algn="l" pos="7634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EurekaSans-Medium"/>
              <a:buChar char="•"/>
              <a:tabLst>
                <a:tab algn="l" pos="363600"/>
                <a:tab algn="l" pos="727200"/>
                <a:tab algn="l" pos="1090440"/>
                <a:tab algn="l" pos="1454040"/>
                <a:tab algn="l" pos="1817640"/>
                <a:tab algn="l" pos="2181240"/>
                <a:tab algn="l" pos="2544840"/>
                <a:tab algn="l" pos="2908440"/>
                <a:tab algn="l" pos="3271680"/>
                <a:tab algn="l" pos="3635280"/>
                <a:tab algn="l" pos="3998880"/>
                <a:tab algn="l" pos="4362480"/>
                <a:tab algn="l" pos="4726080"/>
                <a:tab algn="l" pos="5089680"/>
                <a:tab algn="l" pos="5452920"/>
                <a:tab algn="l" pos="5816520"/>
                <a:tab algn="l" pos="6180120"/>
                <a:tab algn="l" pos="6543720"/>
                <a:tab algn="l" pos="6907320"/>
                <a:tab algn="l" pos="7270920"/>
                <a:tab algn="l" pos="7634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703440"/>
            <a:ext cx="42037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5560" y="115920"/>
          <a:ext cx="9118440" cy="6622920"/>
        </p:xfrm>
        <a:graphic>
          <a:graphicData uri="http://schemas.openxmlformats.org/drawingml/2006/table">
            <a:tbl>
              <a:tblPr/>
              <a:tblGrid>
                <a:gridCol w="1589040"/>
                <a:gridCol w="3746520"/>
                <a:gridCol w="3782880"/>
              </a:tblGrid>
              <a:tr h="320760">
                <a:tc gridSpan="3"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16 Junio 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H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T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100" spc="-1" strike="noStrike">
                          <a:solidFill>
                            <a:srgbClr val="ffffff"/>
                          </a:solidFill>
                          <a:latin typeface="Soberana Sans"/>
                          <a:ea typeface="Arial"/>
                        </a:rPr>
                        <a:t>PON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7340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0 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ribo y registro de participan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do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0 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saje de bienvenid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. Jesús Felipe González Rold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05 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uad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María Esther Lozano Dávi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:15 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námica grup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c. Gloria Vargas Esqu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5 a 11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rategia Nacional en Obesidad y Diabetes Mellit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Gabriela Ortiz Solí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00  a 11: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2"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48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0  a 11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los de atención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Diana Carrasco Alcántar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45 a 12: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orama del Envejecimiento en México y Programa de Acción Específico de Envej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. Javier Alfredo Calleja Ol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:45  a 13: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íticas públicas en materia de enveje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a. María Esther Lozano Dávi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:15 a 14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sa redonda “Modelos de atención en el adulto mayor en México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. Manuel Cervantes Ocampo, Dra. Ma. del Carmen Ceballos Urbina, Dra. Carolina Rayón Rangel, Coordina Dr. Javier Calleja Olv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:00 a 15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guntas y respue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8:27:41Z</dcterms:created>
  <dc:creator>Preferred Customer</dc:creator>
  <dc:description/>
  <dc:language>en-US</dc:language>
  <cp:lastModifiedBy>Daffy Duck</cp:lastModifiedBy>
  <cp:lastPrinted>2014-03-06T16:07:21Z</cp:lastPrinted>
  <dcterms:modified xsi:type="dcterms:W3CDTF">2014-06-13T18:58:45Z</dcterms:modified>
  <cp:revision>244</cp:revision>
  <dc:subject/>
  <dc:title>Diapositiva 1</dc:title>
</cp:coreProperties>
</file>