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24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dt" idx="10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ftr" idx="10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 type="sldNum" idx="10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8DB-05AF-496D-896D-DDD336B07ACF}" type="slidenum">
              <a:rPr b="0" lang="es-E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23E1-B85C-4ED7-B3AC-3F5BE5011614}" type="slidenum">
              <a:rPr b="0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D57-739D-4320-A774-3ECBB94A74BB}" type="slidenum">
              <a:rPr b="0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EF62-738F-41B2-A373-16D86FE9A8D1}" type="slidenum">
              <a:rPr b="0" lang="es-ES_trad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B69-09DF-46CC-A8B1-195D8CFB3E80}" type="slidenum">
              <a:rPr b="0" lang="es-ES_tradnl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5D9-BED1-4F18-AFC6-0B8C5BB8258E}" type="slidenum">
              <a:rPr b="0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6ED-DB22-41F0-B5CE-6DC7811BDE5A}" type="slidenum">
              <a:rPr b="0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098-AFBD-4C7E-98B6-81354C0E73AC}" type="slidenum">
              <a:rPr b="0" lang="es-ES_tradnl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8E1-4911-460B-80EF-FCB7427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CE-31A3-40FB-9491-8B58BB24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73E23-6101-4171-BDA6-4FD26D7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A9FB5-8402-4FB2-B709-A53B623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7FDB5-C6DC-4E4E-A628-8A459A34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3F4CDD-37AC-4FA5-8F8E-EAA2874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E7AC0-CFA6-4867-BB58-C69741B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75792-F977-4A97-AD14-3FF49A9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D6F8C-839B-4B60-A828-B64F7D2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1EBC6-48D8-4BD2-AC35-7A1EE36E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69086D-15D0-4295-8DFB-F05C33E7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F8A5B-D88E-4840-8879-0A88D7CF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3A9-C135-4D29-9C11-B8406855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D9158-E155-4A68-80D3-98FB64B3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6D80D-0A8D-4480-901A-F57C716C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0BD8E-E0E3-4AB8-8A32-CC5F969B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E8532-A451-4E01-ABDA-ACA5FA5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220D2-F8EB-4202-96E0-E5A40D9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E304F-F6A4-4AFC-8CC2-8C3BDB3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20090-6341-4A0D-B717-B348007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260D1-9EB1-431E-A376-11079F5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A8678-C3AB-4939-8863-46E1523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2F4DA-DB8F-40B6-8318-909DB26F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E85-75B5-4AC5-A066-52BE9AEC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AA9B6-6786-4AF2-9BE0-D8DE7411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D3035-C70E-4353-A4D3-AD8B35CD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E6736-CD18-4711-8014-41BB4974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0E8BD-6971-4473-9CF1-4969185D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6E714-FA93-4430-906A-5109C9A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E1D7D-3373-45EE-98E4-8935A5E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02B0E-2D66-4CD3-ACFF-9410479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93263-A504-4344-8C6D-87A969E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36C2A-0E92-48E6-821A-66B6EEB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FDACA-6618-400A-BA4F-A4FBC8F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D953-14CE-40FA-8011-4F3DDC13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97763-32B9-4716-BC95-45292E53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B48B4-3D07-485E-A37B-A9BB556A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FCE59-D05A-400E-8D4E-07EBEF3A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542ED6-F4AA-4ED1-A49A-3021EF24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F7FCD-A434-46EB-AFA2-1E6B1E2A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A995F8-E3DB-4448-8694-16CB577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E414CF-F40A-4C1C-AE19-C8D5ECC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F303D5-4938-483A-9FC7-5C9947E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379B98-403E-49C5-9C8A-0B26DDF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35F5AD-E385-4A50-840A-91B4D8BF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797C-D797-4BA6-862A-4BFA252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B2281F-3644-4630-AF08-938A5E5A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0713C2-690C-4BC0-BC1B-E829E40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F2B8ED-95CC-45C4-ADA8-0774F390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D4284B-AC05-4F61-A4BC-4E90CB52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3F21A0-511F-406D-BAC7-BA5440E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437BA-01A7-43E9-843B-076F407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3C0B7-C2FE-4F3D-9C95-EB653D5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00093-DEA5-4BB6-AFE1-6B44A52C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CFC26-470B-45DD-B91D-CE4578A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ADA15-099E-4541-B210-593E3B5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2016-2D63-444D-A45F-1193D0AD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684B3-2CC0-4ABA-AA82-0999836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5178C-4CE0-4000-A5A4-B1ABE09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1D88D-4529-4768-9973-150CE51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DC675-FF93-48EE-9133-FBA2F0B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CAB5E-3D22-4171-BFBC-96FCC9B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EFA93-6003-4733-BF3D-32598460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0BB02-FD92-4367-A7CA-7E03D007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44BE59-7622-4B29-9184-7360E682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AB2AA-F4CD-4AF6-B67C-A24003C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C1A9BC-7949-409C-B013-1F87472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A82A-1A3A-45AF-B1D6-C4BA39CE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42F6E7-3254-4ED7-8390-964D5B4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74E6E2-0FC0-4E3B-987E-C83660A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0CFB2C-1547-464E-984B-66E962A9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2B7F42-ABDE-4C41-822A-6BB89B3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3949FF-4EC3-47A1-A539-C34E07C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8D6ABD-1C7E-4704-A64F-A144307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17AEDA-48A1-4C27-AB6B-1D5C9D8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F929DB-7956-426D-A363-AD0486C4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3ADB57-D507-418E-8EC8-8F540775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CFED78-2D53-4124-B7A7-21B246D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E81-DCFC-467E-B7A8-363E790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85E363-3956-46C0-BCCD-B0C6BCB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4F04D3-FAA4-4ABF-AEFE-E9F288E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947680-90F4-4192-9172-68045A90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169EA6-DF74-467D-8BF0-68A9871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3E65C4-539B-41BD-8CD6-9413003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769D79-9454-48E6-898D-2020273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51D56C-7A6A-49F0-8D53-CCD0BAF8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59229A-75C6-4AF6-B05F-98FF416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45F4DD-F37C-4C7A-90EA-B8D71F8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D0699A-6C37-4C4C-9278-9AEBD6B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181A-12B3-433E-AE7F-9BEDD7D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23D928-3A5D-4CEC-B0B8-6CC00D30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F7B40A-F968-448A-AFFE-A8D0D62E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EC222A-5F82-4FE5-BB28-951B9B58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D1605A-6732-436F-88FD-813D6D07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841A69-2193-4ED3-A965-53BAC42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13E222-5E99-4616-AD0D-E2018F8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2660A6-0F4C-48C4-9598-DC3BDE0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B536A6-3406-4BF0-ACB2-C4E9F41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3298F7-4441-448F-A457-0AF3746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277AA4-D60B-4EB4-B967-9184EDD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73EA-1C67-4787-AC43-2995A6F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D436FA-4849-448D-A5D5-065EB59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8929B0-C8D6-4C0C-BE9A-99274219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CCFF61-3F2C-49F1-BBD5-BB7F3B4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EDE410-B347-406D-B0AB-B9EA4851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2DBF5D-B740-43E8-9B90-54ED24C7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81EBC9-8634-44D0-AA26-59142CBB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8932B4-93D2-4C60-8B93-DDC8E8C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BD92D6-1C51-49A2-9DF4-58D16729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7FC8DD-303F-4EA5-ACCE-EF9F331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AFB88B-2423-4CEC-9D75-CED15F4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625-2DFC-4114-9860-8D76635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A0C-18F9-49B0-BE34-9400E68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9A9603-7754-4EDA-A791-3828D8B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FC15ED-4AEC-42E9-9FA4-39A1D90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6F8CF3-6627-4FE4-8A9E-D5F39DD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F20159-D5F2-40CA-832D-CAD12CF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91193A-CAF7-4687-ADC5-A9841B5F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4B092B-ED5B-4D47-9281-A0B406CD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BC23FE-31B9-4785-8F7E-32DC6091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AEFD21-C072-4CDC-B3F6-2F75B5A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B1694A-98B4-4B26-B3D6-C4E2D764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D6F844-F951-4BBE-805C-1BAC9D5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A8E8-4FD8-4B50-9A66-3892407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3494AB-A7DE-439D-BF18-4BCA0E3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CC0906-48E5-40B9-8168-4F701BB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22D2B0-3D94-4FE4-B5FC-ED4BF11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B3AD43-2232-4BF1-B40B-074B53D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9A43A6-E539-47A1-B8B5-5EDEEA4E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675FC4-9337-4641-AF86-5BAAB2A0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A6F369-5A59-4FB5-815B-9C880BB9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A9575B-62E8-4220-A78E-A1B6B2CE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902E34-791C-4D77-904F-3B62D38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D715C5-2179-460B-85F9-4D1876F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F5D-7572-4885-997D-348FB67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503EF3-504E-4B48-905A-0C4E418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9F67E7-42DB-47B8-8393-F4F9BFA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0B4371-B381-4F0C-A0E6-335DC0E1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7921E1-9FDB-4998-95C9-DFBE196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B05D5F-B6CF-4988-A97A-9FB80DC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E2CEB0-6714-41D1-A66B-71F1BC2C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E3BA92-3FAB-4462-AE18-F122C42B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20A2C2-30D8-4106-A560-556BC4DF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8C0FD1-39A9-4F50-AE1F-38DE79FD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32B4A1-384E-4A6F-B9E0-C492E207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6E8E-E458-4B90-A41D-0403E0B9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BAD074-D81E-4E92-BA01-CBCA2DD7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89DDBD-4342-4B90-9C85-ECA5D4E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FE5B8F-CAAE-47DD-9D84-5738E7D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36B0DE-2CA7-4477-951F-B4E26C6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B39BD5-FE9E-49DC-8ECB-E04DE58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8589FA-D3BC-4922-810E-2484D70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A422C88-DDE5-4C43-BE16-B5ECA58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391D05-8DC3-4EF6-83E3-76D2E5FD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F23CBD-CAE9-4E8B-9859-4756EB7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9D2F8F-CA9D-4BB0-8189-D8C0B5B0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3569-07AF-429E-A129-3DB645AC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E975BC-B94E-4461-9903-EBDB549E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4CA4FC-B5D4-451E-A9E0-CBB559C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5F9247-5B9C-4822-97C6-85CF91FB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3104FB-3A72-4631-A8F3-8EB7C82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E5AC52-80FD-490D-A728-39D17274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ABEDEF-BFFE-4C93-98C8-4060E3D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0EFAC1-C66E-4349-B93C-049D998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392796-91A8-40DE-9F86-7684BCB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F3663D-5724-4715-9EB8-5424DB9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E3F768-0A35-4EDD-8819-20BEB95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88D4-3FA3-4EB4-A685-C1AAD23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032762-17FA-4439-9170-DF0C557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5D353F-7A11-4929-A3B8-913547E8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D91D49-7399-4546-A3C0-F377A685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4AB1DA-B0FF-4639-90D7-BD3C4DE5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90F3BCE-5765-44F8-B6C6-96E5F25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5F7508-2A6E-4643-B13F-AFC1E232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5EF6D0-E151-4BBF-BE5F-265D458D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5B5308-1758-4AE5-A048-3232001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F0A482-3AA2-4435-9E36-F91BE4D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83DAA6B-6CB1-43AD-8EEA-2F4D9BEA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A54E-8CA0-4F3D-A7C0-6B24E77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D858B4-6264-44B1-8674-A85A7B2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CCADFC-AA18-4BE1-9BFB-4B16397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D3C06F-4F07-43B3-B988-9116A958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F1300E5-074F-4EC6-92E5-A1FC1863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E155279-7AC9-458D-8E51-243E6129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D82741-FF88-413A-A1E2-F69BFB7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73C0D7-B763-4C3C-A762-963929E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E0631F-2012-4EE1-AB6B-E0D72192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E35A355-BF88-4368-BE5C-6F5F31D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4E50A02-542B-46CE-8225-465039E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35F7-958F-41B1-BA9C-B33D103A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FBB0EE-0C8B-4C3E-A525-679CD57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C3A3EC-12D6-41DD-915C-75C60AC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C20B76-A61B-4109-A706-941996B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DEC3625-B499-46EF-9064-E1532FD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29182B-D532-47C7-B2C7-5A094DB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F223EE-4030-4522-A336-88F93029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86FEA0-A1A4-4287-A970-314B6864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8B2FAA5-21A6-4034-9C94-3E299715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F2F409-F4ED-4A57-BBCD-14E141A3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C618C3-4D19-471D-87C4-CE5CCF2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35DF-39D8-4313-A191-F87985A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0B66E1-DC42-40E3-8EAC-1541AB6E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A5ECE7-8E37-4AAB-AC86-EB3BB71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A790AC-9CFE-4E07-A247-A8784DC1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C163AC1-538D-410F-9D43-1D781E1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63BCA7-F59D-4B66-A648-4CD4EF9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E60D61A-956F-41A0-A638-C393DED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51AAC62-5A2D-4017-AD87-213628B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C3C1EAB-DB6F-4519-9BAA-44D7AD5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12C18C6-5AFF-4A80-81CC-9C040CC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D53662-9DF5-4B4F-AFD0-C03D62A8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4B24-F4AF-4DF5-BEC8-E27F926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A6BF50-1764-477C-9796-DFC98278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F75DD8-7408-410E-8B26-434BAF6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B720A0-AC6D-496A-9D2E-C5740F7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281165-A45F-4D1A-AB09-F5D00D70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333A23-7605-4BC7-A400-78067B77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2F6665-A08F-4010-B8EF-D36D078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737881-94A4-4433-8635-5F800EC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ED5910-8F63-4F36-AA1B-4072225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2A276B-CFE9-44DB-B82F-B719E9F5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5754D5-A42C-4D92-81E4-9C19F1A0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EE4-47BB-4350-8CE3-3B7C1D2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E088-E4AE-42B5-A359-DE6F814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62A273-A84D-43C7-BC1E-4FCADCCF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25FFF6B-C0DA-415E-89B2-839C13E3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374335-72BD-4164-866F-412733D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9D6BC7-7434-4081-920B-CB519C2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2EBED9E-5DA9-4988-A860-7560854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BFA2FA7-CF24-4740-A4B8-45C2E75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5A9D30F-4A18-4791-A736-6BD144C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6CE0C8C-6DD1-4A8D-B340-65CCB7A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70625D1-19BA-419C-BC88-37EF874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9F800C-965C-4199-AD4C-CCB17DD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4DFC-0F1A-46A8-B2BB-10FCFE8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F300CF2-58A9-4E4F-B4EC-43A9BFED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45AA93-E4E7-4C90-8D6F-204CA91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EC2213-6BDD-430A-BBA5-F72B0E98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CD6FA4-421D-4D02-BD30-53B48EF4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16433B-9525-4FCB-BB5B-03177DF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5A5F703-5F05-42E3-96E5-F3683233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79D6515-9106-4B01-9B24-1B2236B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FF3BAC-8203-466D-A5FF-8A926BCA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2F7B29-E2ED-4873-B691-A71B203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589CF9-BEFD-46FF-8F11-FF8AE0D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9CE8-F0EA-492D-AB24-3951553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9C5E973-855C-4D90-BF25-8BC4676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269495-BA5B-4916-BACC-FB4F7CC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017F76-B559-4893-B9DD-7F653081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B1EC26-158C-4519-B950-511F44A7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9996989-24A2-43C5-AB00-2E7495F6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B76300-504C-4133-B367-A130FFD0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0936F7B-4BCD-4E0C-831A-E7DA30D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184406-142C-43C5-98CF-55A1195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64B208-1BDB-47A5-ABCD-6F051E61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C969C6-91C3-4B76-BEB0-EE77940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1D1E-B833-40D6-B0E8-B7B7B92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DBB24B-ED2B-42E1-9B2B-9619EED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651300-9E62-4FEB-8B61-0FE7815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0DDFEB-3826-4ED5-A90D-868EEA4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041258-78BB-4CAB-A6FF-E943D7E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F7E3305-984B-46EE-814A-299ACB4E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D0E980-081D-4BA9-9B17-369DE042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37969C-F442-42F2-A555-7267E33E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7528D5-C0A7-4D8D-9BA8-4EB30917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25AA9DA-A4FC-4541-9928-19F37E66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4E84FC-4CF6-4275-9258-993478F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3B24-3E7A-4BB8-A9E1-F1E2DAFA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5D9338-FCB1-49B2-A96A-1C2E9A9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15E0D02-7366-4214-82B2-A7D4F6FE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CE4F95-EBDF-4193-B5ED-43AD9A9B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CADD7A-CEC7-4BB8-BEA2-C3EECBB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C91B7E4-735B-4047-B5AA-2B57F44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BC80FAB-0180-4F37-9A53-B31CA58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7A888F-DB92-45A9-A8BB-0A20FCF4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34F4E9-BE78-4A2C-B0B0-3CDAE4DF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631FED0-4B99-4AC3-BF05-FC1AE18D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BE3A084-2FFE-4AC8-BF2F-CFE459EA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F6A5-660C-4DC8-9A44-29FCFDB1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31AD4EA-ADCC-4C12-9D63-9811F012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834A054-8033-4A61-8A64-196B64D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4DC2E0-661C-4A60-B18E-0F99FE17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9968185-E4AE-4ECA-A1B5-7DF1E25E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1AE111D-77AD-46F1-B69E-F61A461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E1E0801-82A2-42C2-AE4E-C341615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C0ED4D3-92DF-4D92-8C37-0F86D405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FBA1188-67A0-4EB8-8664-9D1E5AD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00E9BC8-4266-4F32-AADB-00E24A5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CA7DDEF-0DED-461E-884D-593ADA02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CD53-F432-43B2-9B27-6AD9A5AB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039458C-B3FD-43F0-B0B3-9D5F7370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A43E00-46E3-4EC9-BEB9-F5BA5F7E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7201BC1-E3F5-4C2C-969B-60169F53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0123BCF-BE03-453E-9F7A-FD8C344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E904AC-BB70-4605-A7EB-C9A4BC6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C9351D-ADFF-4C71-B9ED-E5258D8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6D5EC75-9FD8-479B-94BF-DDEC83CC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75ED3DF-26B5-4E0B-B9B5-D865E95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C87FC00-A845-431D-B827-BEFF902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5AC3B67-5691-49D0-B9CB-1CCEBC33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BE67-96D8-4D93-9FBB-8B0113F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06E9B13-2C74-4A37-9608-151CEB12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C9595B8-E4E6-4C7B-A8D9-ED266EB8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43B8354-2B28-41D4-837C-842C247C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C7B9F21-8140-4231-A1B3-82B56752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4D2E398-C82C-4750-AF9B-294A1FF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56E0C3D-50E7-42E9-B4D1-EA793DCD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B976638-5CE8-44AF-B9E3-2C64F97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95A934F-7FD2-419F-96CA-B2B5E91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3BB39A-7293-41D5-9FB0-FE6F060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48C78CF-C532-4C40-A80E-47AA81A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976A-09CF-403C-8F60-072E205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D0DF326-E1E6-438B-A267-598E405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0795306-C02B-4D5E-9257-5D4F129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082C62E-71B9-431A-85B7-1332CAB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987A05B-0CE2-4967-8419-450EF1EB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62EE12-DBBC-4B55-BC72-2B777F31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A28EC52-390B-45C3-98F7-2D5F1B2E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F444347-CA35-4CBF-B4E4-361A1D0E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A36FA2B-11BE-4B1B-A671-8C68D3B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7FACBB3-FF59-40AE-90C7-8D9B19DB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5854D4-E4A8-4D79-896E-006B723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D75B-7B75-449E-90E5-ED280E0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ED6DF73-E5BB-47DC-B070-CF70720B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C5EC8E6-FE03-4512-A17F-132E9494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AFECC93-5C7C-4CD7-BB5C-C25EB00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0DC669-9D69-403E-BFC9-DD3CA6F2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BEEBB68-2705-4CE9-881E-00C8917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001760-B830-46ED-BEF8-382B4734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1457847-0126-46DF-9B9A-5FF55F6B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32AC0E1-DDD9-4167-B14C-C81C29C9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26B1F3C-DB96-4436-B764-9DCA1A43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5283F38-2261-473A-BA46-090E90C9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8E4-77DC-4527-9913-689873A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A711-6D6B-42D2-AC7D-D52FA796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4265811-4AF1-4864-8810-871A9E6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BB97AC6-3C80-4F39-AA91-2A92545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E5298A4-40C0-402A-B9CE-A537F4E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C58C40-A252-4D63-BB3C-D32185B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067A452-642A-424F-8345-5937E32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A41A77B-259B-4E9E-8461-078F1BD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652CEC-1C8A-4C3F-8AA7-0659642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EF5EF19-04D5-4408-AAFA-9C46A5DB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C584F19-BAB6-4344-AE1C-1E7C9EA1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8D444F-3FB8-4D86-AAF9-F1B87007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7FEC-D4D9-4662-84B0-928116E4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C32E46-D450-4FC7-8B6A-EC84E9F2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7DFAD1-0589-4A00-AE95-1C4AD989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FE8C2D2-8411-4967-B1DC-6CFF7C99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CE83CD-DB6D-4FC4-BF3A-657F101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7E7E7C-0957-40D9-8C35-E1B8D2B8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539533F-D2E9-4B85-91E4-C0617D5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77278F0-17F1-4788-87A0-0C96E4B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E5F6551-735A-42DB-875D-3B713BC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652A107-21CA-4644-8B15-9131627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9A589FF-7FE7-4C3A-B392-3457316C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EB02-2C0A-4755-B208-8C77DBD9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79D21AC-C652-4DDF-A761-CF5A8B6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222FBAE-3350-44D8-8F61-792305D9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95FFC4-D6A0-4A62-9ACC-DEF1E6A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D5246C-1DD5-42CA-A0C4-2D723DE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968A4E3-EF3B-4A67-949F-4496C75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4BC0C98-0EB0-4E7B-B18A-0C1A3846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2471D56-2841-4DE8-AA14-E6740853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5D7D71D-E363-4089-A6AE-9B7140D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1DFC0E6-3BE5-4F25-A4B6-B73C5C9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645A9E-52BE-4545-8A7D-5F4352D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ABD3-F057-46E0-B9D1-CB8FB62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311F81C-48E8-4D12-B162-294DA4C8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17C9AE-C34C-42C6-AE6B-1B3B3654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32B7B21-8FA0-4D35-AE2C-6FC58624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C9E5635-7D4E-4BAF-993B-9318D6EA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6F87D6-92D6-46FF-AE5A-1635A85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55A1A13-62A0-4C91-A0BB-4FC5199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4AF5DF3-AEBA-473A-A138-2ACAE66A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0F5C656-015E-4D83-8FA9-4D83A99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1BB4FB-F9C5-4AA2-9203-A360948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BC8806A-72AF-4BF7-8502-5608212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F3F0-51DF-4A04-A41C-F3B884D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588BD8E-71AC-4E33-8FED-B093BD78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75A9C81-78B8-4A81-B9C2-F617F9C2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1748EA-4E90-4E66-95CE-2AB6AB9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1165B41-E658-46D7-BA93-06E7EF89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B4EFAA8-7B39-4187-85CD-675D3219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0C01-D852-498F-A583-4E49E07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565CD-7C7F-461B-B23E-B031B3B8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DF5B-CE0E-4391-8FB2-74F1C3E4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3E06C-0465-4DE8-9A39-69665AD9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6E5F-9680-47E1-A5E5-5EF5AA4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565-4F0D-4769-9E6A-469F679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C2ED-BD88-482D-B2E1-2189D22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9CF2-69E2-4E84-8774-BF63DA2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EB85-C54E-415D-9F12-5B607CF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1E31-7866-4378-99F6-0A3C9DE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52FB-F606-4300-B955-F01C19E5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A269-A048-472B-B785-92D131A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1A280-9867-40A9-864B-290E0B9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792F4-CDE9-4F72-B606-032C6A9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E0AD-3F18-44A2-A978-49B38024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98BD-E812-4DAF-AD4F-71DD4E9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367-E6B2-44B2-A1D5-E8A2DCA6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F82EF-5B7E-488C-AD05-ACDDF256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93C-2F4C-4F75-8C61-99A5FC8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E24-C3B5-480C-9D24-F3870CA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DF268-AA54-49C0-B3A7-894D5C2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E3CE84-786E-47C9-A487-888EAE8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5C0C8-1375-47BD-9A14-00690B5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52528-6CB4-4202-9FF7-49FFF8C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CF3BAE-E417-4A10-A979-7574F8E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687-8B6C-483B-90F0-05837B0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30856-FDA5-467C-87EC-28EB654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A3EB6A-70A9-4A5F-882E-B126DF9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ACC41-07E4-43DA-8940-EC2F27B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DB4A8-E324-4FC5-9CF6-118B022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6D95E7-279E-4C47-A3A5-52394C3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61FE74-4BD2-416D-9F39-A850723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27D9E-9076-4851-B81B-CE890F30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F24E1-0342-480F-87B9-99B772FA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5CAEC-AA1B-470B-A9A2-7B0FAAF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C0594-2EB5-40E1-AB3F-FABE1153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EA0-F0A8-4912-A59C-CB2D1298E633}" type="slidenum">
              <a:rPr b="0" lang="es-PA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D44-2C10-485A-9AB2-59895D592FFF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3A16-B4C3-4DFD-8993-985C1EF75AFE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F23-FF3D-40AB-B572-E004A86044A4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0A09-5D05-46CE-9E83-87BE107B4D5B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6313-688F-436A-A92A-CB82AA348855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D0A4-E4C0-48DE-9D7F-994BD2865AEC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4CF-FF49-4714-ABA3-C3360C02A132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2619-8B7C-48DB-9E2A-A69170B05E1D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52F-A64D-4A4B-BE16-98529C376990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1DE1-387C-40EE-851F-F50531B77932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2A6-B596-4F01-A83E-60095D36C314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3D0-93A2-4C22-9F60-D19406E3B8D6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61F3-B564-4BC6-AED9-C5F9D8B2A7CE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8ACE-B82B-4F98-BE0F-6DE9EAAEE288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F74-C26B-49E3-A317-144900795B44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DD8E-B1D4-4C43-A95E-21808EEB9FA0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F88-948A-4798-B9BB-03241D5F2DE2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119-41BD-4BE0-9342-2EE1A1AE9C11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6A5-3D60-44ED-AAEC-D3C4F4645F78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7A6-C187-40F5-B3EB-148B2181A03C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09E-0069-4795-86CC-8A7DFA42DBD7}" type="slidenum">
              <a:rPr b="0" lang="es-P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D3E8-13D1-4248-991B-CF727896D4EC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DAA-AAF1-4665-BF70-6B663E0B959E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4AF-DB5B-464D-A1F5-58DE7D8D6A33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7B6-28FF-4284-B7CA-35F6DF4829FD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3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84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B41-2678-4027-BBCE-9A66CDB6F370}" type="slidenum">
              <a:rPr b="0" lang="es-ES" sz="14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0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9AD-C3DA-4663-8E10-6060D3D9E22C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6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6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6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3857-2678-4322-919B-7C1C6CB3E0AF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4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12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6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6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6B96-29BA-460F-8182-4FC6B78A26EF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1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17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7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7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7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EA81-1C21-4107-BC85-FB7FCFA9EC8D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7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7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7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9850-0FB5-4D1C-9B2D-37C5C16BDE32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5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7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7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F763-CFCD-4B51-9251-841293B7D343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2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8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8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8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35C-A163-4344-BFBF-2DDE5A97CA5F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E61-8160-4FB2-BD7A-B828CDB57115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8A3B-3F4B-409F-B897-65587D820422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9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6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8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8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8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DFB-078D-4ABD-8C07-B8A58BEC3181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6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0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8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8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8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018-3941-46CB-A901-16F6725662C2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3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5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8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9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9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C34-4B55-460C-8EB1-E10F156D9FDB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0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9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9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9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2E5-9FBD-453E-8651-F90418ADD741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54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9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9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9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4A7-7CAF-4B21-BEF9-C22CF99C5BA6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4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59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9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9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D33-D027-4495-96A0-299F3755DB7C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1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64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0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0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0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D6DF-A723-45DC-B560-D36F2031CF37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68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 type="dt" idx="10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 type="ftr" idx="10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 type="sldNum" idx="10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2a3d7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D10-6C58-44BB-9D23-9B8245BEAA54}" type="slidenum">
              <a:rPr b="0" lang="es-ES" sz="1800" spc="-1" strike="noStrike">
                <a:solidFill>
                  <a:srgbClr val="2a3d7a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55F5-0F2F-4AE7-AF83-A90D09CE01AC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1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1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2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CA3B-DD0E-4EF1-9F37-A1B023144814}" type="slidenum">
              <a:rPr b="0" lang="es-PA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7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7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2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2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1026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5" name="Group 1032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76" name="Oval 1033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Oval 1034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Oval 1035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Oval 1036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Oval 1037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Oval 1038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Oval 1039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Oval 1040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1041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Oval 1042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Oval 1043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Oval 1044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Oval 1045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1046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1047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48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Oval 1049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Oval 1050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Oval 1051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1052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1053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54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Oval 1055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Oval 1056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1057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058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1059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60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Oval 1061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1062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1063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7" name="Line 1064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0578-397E-4BBD-8EB2-B1CD438269C6}" type="slidenum">
              <a:rPr b="0" lang="es-P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287-6B85-4B6A-A136-8D1C934DB8F0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5EDE-E95D-4844-B924-419A880F393C}" type="slidenum">
              <a:rPr b="0" lang="es-ES_tradn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PROGRAMA DE SALUD DE ADULTOS Y ADULTO MAY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irección General de Salud. Atención a la Pob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aquel Gutiérrez de Mo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ordinadora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Medic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1" name="Object 2"/>
          <p:cNvGraphicFramePr/>
          <p:nvPr/>
        </p:nvGraphicFramePr>
        <p:xfrm>
          <a:off x="4932360" y="1989000"/>
          <a:ext cx="374328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89000"/>
                    <a:ext cx="374328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Times New Roman"/>
              </a:rPr>
              <a:t>Morbilidades</a:t>
            </a:r>
            <a:br>
              <a:rPr sz="44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ob. &gt; de 60 años</a:t>
            </a:r>
            <a:r>
              <a:rPr b="0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ipertensión Arterial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Controles)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4.0 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ripe o Influenza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vacunas)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1.4 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astroenteritis y diarrea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lavado de manos)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10.0 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Obesidad 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cambios de hábitos y ejercicio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fermedades Men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Demencia: Alzheimer, Parkinson 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 medicamentos, consejería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Trastornos afectivos (humor) 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medicamentos, terapias, abordaje a la familia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Trastornos somatoformes (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evaluaciones médicas, familiares, terapia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Los relacionados con el Stress. 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( ejercicios, consejería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1" name="Text Box 4"/>
          <p:cNvSpPr/>
          <p:nvPr/>
        </p:nvSpPr>
        <p:spPr>
          <a:xfrm>
            <a:off x="916920" y="5965920"/>
            <a:ext cx="7049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Informe Nacional sobre la Situación de la Población Adulta May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en la República, por sexo y edad. 2002 Estadisticas Vitales. Contraloría de la Rep. Panamá.,</a:t>
            </a:r>
            <a:r>
              <a:rPr b="0" lang="es-PA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2" name="Line 5"/>
          <p:cNvSpPr/>
          <p:nvPr/>
        </p:nvSpPr>
        <p:spPr>
          <a:xfrm>
            <a:off x="900000" y="5877000"/>
            <a:ext cx="705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3" name="Line 6"/>
          <p:cNvSpPr/>
          <p:nvPr/>
        </p:nvSpPr>
        <p:spPr>
          <a:xfrm>
            <a:off x="1116000" y="1125360"/>
            <a:ext cx="66247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Morbilidad Crónica 2010</a:t>
            </a:r>
            <a:br>
              <a:rPr sz="3600"/>
            </a:br>
            <a:r>
              <a:rPr b="1" lang="es-MX" sz="1600" spc="-1" strike="noStrike">
                <a:solidFill>
                  <a:srgbClr val="eaeaea"/>
                </a:solidFill>
                <a:latin typeface="Tahoma"/>
              </a:rPr>
              <a:t>Contraloría General de la República. INEC 2010.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05" name=""/>
          <p:cNvGraphicFramePr/>
          <p:nvPr/>
        </p:nvGraphicFramePr>
        <p:xfrm>
          <a:off x="1187280" y="1773360"/>
          <a:ext cx="7632720" cy="5138640"/>
        </p:xfrm>
        <a:graphic>
          <a:graphicData uri="http://schemas.openxmlformats.org/drawingml/2006/table">
            <a:tbl>
              <a:tblPr/>
              <a:tblGrid>
                <a:gridCol w="3519720"/>
                <a:gridCol w="2103480"/>
                <a:gridCol w="20095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erme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cu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/100,000 h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erten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,7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9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s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1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ma Bronqu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4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betes melli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ritis reumato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16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ileps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f. P Obst. cró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ebrovas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bercul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tras enfermedades crónica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066320" y="184104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Hipertensión Arterial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(H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Times New Roman"/>
              </a:rPr>
              <a:t>Diabetes Mellitu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DM 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f. Cardiovascular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Isquem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f. Cerebrovascular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AC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mencia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Enf. Alzheim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ordenes Afectivo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 Depresió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f. Articular degenerativ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Artros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teración de los órganos de los sent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8" name="Text Box 5"/>
          <p:cNvSpPr/>
          <p:nvPr/>
        </p:nvSpPr>
        <p:spPr>
          <a:xfrm>
            <a:off x="6794280" y="5537160"/>
            <a:ext cx="21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Au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9" name="AutoShape 6"/>
          <p:cNvSpPr/>
          <p:nvPr/>
        </p:nvSpPr>
        <p:spPr>
          <a:xfrm>
            <a:off x="6659640" y="558792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 Box 5"/>
          <p:cNvSpPr/>
          <p:nvPr/>
        </p:nvSpPr>
        <p:spPr>
          <a:xfrm>
            <a:off x="76320" y="35892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ISTRIBUCIÓN DE LAS MUERTES POR GRANDES GRUPOS DE LA LISTA DE CARGA DE LA ENFERMEDAD PANAMÁ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1" name="Text Box 6"/>
          <p:cNvSpPr/>
          <p:nvPr/>
        </p:nvSpPr>
        <p:spPr>
          <a:xfrm>
            <a:off x="380880" y="33782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Arial"/>
              </a:rPr>
              <a:t>%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80880" y="640080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Tahoma"/>
              </a:rPr>
              <a:t>Fuente: Sistema de información de Mortalidad de OPS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3" name="Object 7"/>
          <p:cNvGraphicFramePr/>
          <p:nvPr/>
        </p:nvGraphicFramePr>
        <p:xfrm>
          <a:off x="581040" y="1590840"/>
          <a:ext cx="8102520" cy="48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590840"/>
                    <a:ext cx="810252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ext Box 5"/>
          <p:cNvSpPr/>
          <p:nvPr/>
        </p:nvSpPr>
        <p:spPr>
          <a:xfrm>
            <a:off x="1589040" y="6381720"/>
            <a:ext cx="74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NUMERO Y TASAS DE MUERTES  PANAMÁ, 1960 Y 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380880" y="33782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  <a:ea typeface="Arial"/>
              </a:rPr>
              <a:t>%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Text Box 6"/>
          <p:cNvSpPr/>
          <p:nvPr/>
        </p:nvSpPr>
        <p:spPr>
          <a:xfrm>
            <a:off x="5364000" y="616572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Tahoma"/>
              </a:rPr>
              <a:t>Fuente: Sistema de información de Mortalidad de OPS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8" name=""/>
          <p:cNvGraphicFramePr/>
          <p:nvPr/>
        </p:nvGraphicFramePr>
        <p:xfrm>
          <a:off x="5219640" y="0"/>
          <a:ext cx="3240000" cy="6089760"/>
        </p:xfrm>
        <a:graphic>
          <a:graphicData uri="http://schemas.openxmlformats.org/drawingml/2006/table">
            <a:tbl>
              <a:tblPr/>
              <a:tblGrid>
                <a:gridCol w="2041560"/>
                <a:gridCol w="700200"/>
                <a:gridCol w="49824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usa de Mue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4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umores Malig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es, Suicidios, Homicidios y Otras Violenc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fermedades Isquémicas del Coraz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fermedad Cerebro vascul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Mellit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as Enfermedades del Coraz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f.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ónicas Vías Resp. Inferi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f. por Virus Inmunodeficiencia Hum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umon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ertas Afecciones Perinat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das las demás enfermed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1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9" name=""/>
          <p:cNvGraphicFramePr/>
          <p:nvPr/>
        </p:nvGraphicFramePr>
        <p:xfrm>
          <a:off x="684360" y="193680"/>
          <a:ext cx="3168360" cy="5899320"/>
        </p:xfrm>
        <a:graphic>
          <a:graphicData uri="http://schemas.openxmlformats.org/drawingml/2006/table">
            <a:tbl>
              <a:tblPr/>
              <a:tblGrid>
                <a:gridCol w="2008080"/>
                <a:gridCol w="561960"/>
                <a:gridCol w="598320"/>
              </a:tblGrid>
              <a:tr h="324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ausa de Muer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N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83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7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astroduodenitis, enteritis y col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fermedades del Coraz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ccidentes Suicidios y Homici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f. Propias de la Primera Infa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umores Malig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umoní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odas las Demás Enfermedades Infecciosas y Parasitar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ronqu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uberculo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os fer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emás Cau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8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5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Times New Roman"/>
              </a:rPr>
              <a:t>Mortalidad</a:t>
            </a:r>
            <a:br>
              <a:rPr sz="44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ob. &gt; de 60 años</a:t>
            </a:r>
            <a:r>
              <a:rPr b="0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umores Malig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f. Cerebrovas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f. Cardiovas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2" name="Text Box 4"/>
          <p:cNvSpPr/>
          <p:nvPr/>
        </p:nvSpPr>
        <p:spPr>
          <a:xfrm>
            <a:off x="916920" y="5965920"/>
            <a:ext cx="7049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Informe Nacional sobre la Situación de la Población Adulta May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en la República, por sexo y edad. 2002 Estadisticas Vitales. Contraloría de la Rep. Panamá.,</a:t>
            </a:r>
            <a:r>
              <a:rPr b="0" lang="es-PA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3" name="Line 5"/>
          <p:cNvSpPr/>
          <p:nvPr/>
        </p:nvSpPr>
        <p:spPr>
          <a:xfrm>
            <a:off x="900000" y="5877000"/>
            <a:ext cx="705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4" name="Line 6"/>
          <p:cNvSpPr/>
          <p:nvPr/>
        </p:nvSpPr>
        <p:spPr>
          <a:xfrm>
            <a:off x="1116000" y="1125360"/>
            <a:ext cx="66247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5" name="Picture 10" descr="vascular"/>
          <p:cNvPicPr/>
          <p:nvPr/>
        </p:nvPicPr>
        <p:blipFill>
          <a:blip r:embed="rId1"/>
          <a:srcRect l="18279" t="8881" r="17071" b="52074"/>
          <a:stretch/>
        </p:blipFill>
        <p:spPr>
          <a:xfrm>
            <a:off x="4932360" y="2997360"/>
            <a:ext cx="2305080" cy="220500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12" descr="ua_009"/>
          <p:cNvPicPr/>
          <p:nvPr/>
        </p:nvPicPr>
        <p:blipFill>
          <a:blip r:embed="rId2"/>
          <a:stretch/>
        </p:blipFill>
        <p:spPr>
          <a:xfrm>
            <a:off x="6300720" y="162864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</a:rPr>
              <a:t>Programa de Salud Adulto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Con Visión Holística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Mejorar </a:t>
            </a:r>
            <a:r>
              <a:rPr b="0" lang="es-ES" sz="2200" spc="-1" strike="noStrike" u="sng">
                <a:solidFill>
                  <a:srgbClr val="ffff00"/>
                </a:solidFill>
                <a:uFillTx/>
                <a:latin typeface="Tahoma"/>
              </a:rPr>
              <a:t>rastreo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de riesgo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 detección oportuna </a:t>
            </a:r>
            <a:r>
              <a:rPr b="1" lang="es-ES" sz="2200" spc="-1" strike="noStrike" u="sng">
                <a:solidFill>
                  <a:srgbClr val="ffff00"/>
                </a:solidFill>
                <a:uFillTx/>
                <a:latin typeface="Tahoma"/>
              </a:rPr>
              <a:t>Historia Clín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Abordaje Biosicosocia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 la Enfermed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rograma de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enfermedad crónic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Tahoma"/>
              </a:rPr>
              <a:t>Principios Bioét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Cuidados paliativos no oncológic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Interculturalid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foque de Gener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Atención a calidad de vida y dignidad human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6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rogramas de tercera edad. CSS y MINS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0" name="Picture 1" descr="C:\Users\user\Pictures\Imagen\Documents\_Copia de  WD Sync 15-07-2009\FOTOS\adultos mayores panameños.jpg"/>
          <p:cNvPicPr/>
          <p:nvPr/>
        </p:nvPicPr>
        <p:blipFill>
          <a:blip r:embed="rId1"/>
          <a:stretch/>
        </p:blipFill>
        <p:spPr>
          <a:xfrm>
            <a:off x="90000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strateg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3" name=""/>
          <p:cNvSpPr txBox="1"/>
          <p:nvPr/>
        </p:nvSpPr>
        <p:spPr>
          <a:xfrm>
            <a:off x="50036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ción i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ntersectorial e interinstituc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 las activida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nfatizar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on las redes de atención prim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ación de 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Guí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Adulto Mayor en todas las instalaciones de primer nive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ducación de diferente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dimensiones envejeci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4" name="Picture 1" descr="C:\Users\user\Pictures\Imagen\Documents\_Copia de  WD Sync 15-07-2009\FOTOS\adultos mayores panameños.jpg"/>
          <p:cNvPicPr/>
          <p:nvPr/>
        </p:nvPicPr>
        <p:blipFill>
          <a:blip r:embed="rId1"/>
          <a:stretch/>
        </p:blipFill>
        <p:spPr>
          <a:xfrm>
            <a:off x="90000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Volver a Humaniz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85800" y="263988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cc00"/>
                </a:solidFill>
                <a:latin typeface="Arial"/>
              </a:rPr>
              <a:t>Profesionalism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cc00"/>
                </a:solidFill>
                <a:latin typeface="Arial"/>
              </a:rPr>
              <a:t>Principios Bio-étic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7" name="5 Marcador de fecha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CE4-E3DF-4266-843C-EDA98B1F497D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4 Marcador de número de diapositiva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D8E8-83C6-4ABC-8B78-C66693154EAE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9" name="6 Marcador de pie de página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Centro de Estudio de Bioetica. Facultad de Medicina Universidad de Panam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El arte de curar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900000" y="1690560"/>
            <a:ext cx="393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nfatizar en la relación medico –paciente y los valor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sión  </a:t>
            </a:r>
            <a:r>
              <a:rPr b="1" i="1" lang="es-MX" sz="36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tencia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i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nci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Comic Sans MS"/>
              </a:rPr>
              <a:t>Sentido de </a:t>
            </a:r>
            <a:r>
              <a:rPr b="0" i="1" lang="es-MX" sz="2400" spc="-1" strike="noStrike">
                <a:solidFill>
                  <a:srgbClr val="ffff00"/>
                </a:solidFill>
                <a:latin typeface="Comic Sans MS"/>
              </a:rPr>
              <a:t>humor y pa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1"/>
          <a:stretch/>
        </p:blipFill>
        <p:spPr>
          <a:xfrm>
            <a:off x="4649400" y="1981080"/>
            <a:ext cx="3808440" cy="4114800"/>
          </a:xfrm>
          <a:prstGeom prst="rect">
            <a:avLst/>
          </a:prstGeom>
          <a:ln w="0">
            <a:noFill/>
          </a:ln>
        </p:spPr>
      </p:pic>
      <p:sp>
        <p:nvSpPr>
          <p:cNvPr id="1843" name="Line 5"/>
          <p:cNvSpPr/>
          <p:nvPr/>
        </p:nvSpPr>
        <p:spPr>
          <a:xfrm>
            <a:off x="1042920" y="1484280"/>
            <a:ext cx="7777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4" name="Picture 6" descr="chiste"/>
          <p:cNvPicPr/>
          <p:nvPr/>
        </p:nvPicPr>
        <p:blipFill>
          <a:blip r:embed="rId2"/>
          <a:stretch/>
        </p:blipFill>
        <p:spPr>
          <a:xfrm>
            <a:off x="4824360" y="1844640"/>
            <a:ext cx="3995640" cy="3995640"/>
          </a:xfrm>
          <a:prstGeom prst="rect">
            <a:avLst/>
          </a:prstGeom>
          <a:ln w="0">
            <a:noFill/>
          </a:ln>
        </p:spPr>
      </p:pic>
      <p:sp>
        <p:nvSpPr>
          <p:cNvPr id="1845" name="6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47E-C808-4E8B-B804-47C2E1440154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6" name="7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ahoma"/>
              </a:rPr>
              <a:t>Objetivo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orrelacionar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ografía, envejecimiento y servicios de salu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ahoma"/>
              </a:rPr>
              <a:t>Mostrar la perspectiv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Programa de Salud de Adulto MINSA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Ley 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incipios bioét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00"/>
                </a:solidFill>
                <a:latin typeface="Tahoma"/>
              </a:rPr>
              <a:t>Goya viejos comiendo  sop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6" name="Object 2"/>
          <p:cNvGraphicFramePr/>
          <p:nvPr/>
        </p:nvGraphicFramePr>
        <p:xfrm>
          <a:off x="1547640" y="549360"/>
          <a:ext cx="10861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549360"/>
                    <a:ext cx="1086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8" name="Picture 4" descr="two_old_people_eating_zoom1"/>
          <p:cNvPicPr/>
          <p:nvPr/>
        </p:nvPicPr>
        <p:blipFill>
          <a:blip r:embed="rId3"/>
          <a:srcRect l="18883" t="-6009" r="45460" b="-10545"/>
          <a:stretch/>
        </p:blipFill>
        <p:spPr>
          <a:xfrm>
            <a:off x="4932360" y="1413000"/>
            <a:ext cx="37432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Arial"/>
              </a:rPr>
              <a:t>Bioética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r  la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alidad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tención y atender a la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Arial"/>
              </a:rPr>
              <a:t>dignidad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Promover el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fesiona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umanizar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s hospitales y centros de  APS</a:t>
            </a:r>
            <a:r>
              <a:rPr b="0" lang="es-ES_tradnl" sz="44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2" descr="C:\Users\user\Pictures\Imagen\Documents\_Copia de  WD Sync 15-07-2009\FOTOS\Comites de Bioetica Asitencial.jpg"/>
          <p:cNvPicPr/>
          <p:nvPr/>
        </p:nvPicPr>
        <p:blipFill>
          <a:blip r:embed="rId2"/>
          <a:stretch/>
        </p:blipFill>
        <p:spPr>
          <a:xfrm>
            <a:off x="4572000" y="1989000"/>
            <a:ext cx="402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rebuchet MS"/>
              </a:rPr>
              <a:t>Principios  Bio-Éticos</a:t>
            </a:r>
            <a:r>
              <a:rPr b="0" lang="es-ES_tradnl" sz="4000" spc="-1" strike="noStrike">
                <a:solidFill>
                  <a:srgbClr val="ffff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Autonom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Jus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Benefic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No malefic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orte Belmont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. Bea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. Chil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Line 4"/>
          <p:cNvSpPr/>
          <p:nvPr/>
        </p:nvSpPr>
        <p:spPr>
          <a:xfrm>
            <a:off x="914400" y="1752480"/>
            <a:ext cx="7315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4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32A-927F-4919-A26F-1EE0543FB1DB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5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érrez de Mock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Arial"/>
              </a:rPr>
              <a:t>PROGRAMA NACIONAL DE CUIDADOS PALIATIV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desarrollo progresivo por reg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rtante la capacitación continua a la par de enfermedades crón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inculado a implementación de Ley 6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en APS objetivo impor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CE5C-25B7-4C1C-BBAD-7FF21A5694EE}" type="datetime">
              <a:rPr b="0" lang="es-ES" sz="14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Arial"/>
              </a:rPr>
              <a:t>Raquel Gutierrez de Mock, Jornada de CS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Text Box 5"/>
          <p:cNvSpPr/>
          <p:nvPr/>
        </p:nvSpPr>
        <p:spPr>
          <a:xfrm>
            <a:off x="539640" y="1916280"/>
            <a:ext cx="1873440" cy="703800"/>
          </a:xfrm>
          <a:prstGeom prst="rect">
            <a:avLst/>
          </a:prstGeom>
          <a:solidFill>
            <a:srgbClr val="ffe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isposiciones Gene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1" name="Text Box 6"/>
          <p:cNvSpPr/>
          <p:nvPr/>
        </p:nvSpPr>
        <p:spPr>
          <a:xfrm>
            <a:off x="3708360" y="1916280"/>
            <a:ext cx="1800360" cy="703800"/>
          </a:xfrm>
          <a:prstGeom prst="rect">
            <a:avLst/>
          </a:prstGeom>
          <a:solidFill>
            <a:srgbClr val="ffe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erecho a la Inform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2" name="Text Box 7"/>
          <p:cNvSpPr/>
          <p:nvPr/>
        </p:nvSpPr>
        <p:spPr>
          <a:xfrm>
            <a:off x="6732720" y="1922400"/>
            <a:ext cx="1800000" cy="703800"/>
          </a:xfrm>
          <a:prstGeom prst="rect">
            <a:avLst/>
          </a:prstGeom>
          <a:solidFill>
            <a:srgbClr val="ffe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erecho a la Intim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3" name="Text Box 8"/>
          <p:cNvSpPr/>
          <p:nvPr/>
        </p:nvSpPr>
        <p:spPr>
          <a:xfrm>
            <a:off x="5003640" y="3500280"/>
            <a:ext cx="302436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erecho de los Pacientes en Fase Term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4" name="Text Box 9"/>
          <p:cNvSpPr/>
          <p:nvPr/>
        </p:nvSpPr>
        <p:spPr>
          <a:xfrm>
            <a:off x="1042920" y="3489480"/>
            <a:ext cx="2951280" cy="94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erecho </a:t>
            </a:r>
            <a:r>
              <a:rPr b="1" lang="es-ES" sz="1800" spc="-1" strike="noStrike">
                <a:solidFill>
                  <a:srgbClr val="993300"/>
                </a:solidFill>
                <a:latin typeface="Book Antiqua"/>
              </a:rPr>
              <a:t>a la Autonomía del Paciente y a su Voluntad Ex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5" name="Text Box 10"/>
          <p:cNvSpPr/>
          <p:nvPr/>
        </p:nvSpPr>
        <p:spPr>
          <a:xfrm>
            <a:off x="6156360" y="5362560"/>
            <a:ext cx="259236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erecho en relación con el Expediente Clí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6" name="Text Box 11"/>
          <p:cNvSpPr/>
          <p:nvPr/>
        </p:nvSpPr>
        <p:spPr>
          <a:xfrm>
            <a:off x="3780000" y="5506920"/>
            <a:ext cx="18000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Expedientes Clín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Text Box 12"/>
          <p:cNvSpPr/>
          <p:nvPr/>
        </p:nvSpPr>
        <p:spPr>
          <a:xfrm>
            <a:off x="468360" y="5356080"/>
            <a:ext cx="2663640" cy="100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Book Antiqua"/>
              </a:rPr>
              <a:t>Documentos de Voluntades Anticip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8" name="Text Box 15"/>
          <p:cNvSpPr/>
          <p:nvPr/>
        </p:nvSpPr>
        <p:spPr>
          <a:xfrm>
            <a:off x="97164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9" name="Text Box 16"/>
          <p:cNvSpPr/>
          <p:nvPr/>
        </p:nvSpPr>
        <p:spPr>
          <a:xfrm>
            <a:off x="6948360" y="63388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V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0" name="Text Box 17"/>
          <p:cNvSpPr/>
          <p:nvPr/>
        </p:nvSpPr>
        <p:spPr>
          <a:xfrm>
            <a:off x="4140360" y="61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V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1" name="Text Box 18"/>
          <p:cNvSpPr/>
          <p:nvPr/>
        </p:nvSpPr>
        <p:spPr>
          <a:xfrm>
            <a:off x="1258920" y="6338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19"/>
          <p:cNvSpPr/>
          <p:nvPr/>
        </p:nvSpPr>
        <p:spPr>
          <a:xfrm>
            <a:off x="6012000" y="443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3" name="Text Box 20"/>
          <p:cNvSpPr/>
          <p:nvPr/>
        </p:nvSpPr>
        <p:spPr>
          <a:xfrm>
            <a:off x="1908000" y="4437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4" name="Text Box 21"/>
          <p:cNvSpPr/>
          <p:nvPr/>
        </p:nvSpPr>
        <p:spPr>
          <a:xfrm>
            <a:off x="709308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5" name="Text Box 22"/>
          <p:cNvSpPr/>
          <p:nvPr/>
        </p:nvSpPr>
        <p:spPr>
          <a:xfrm>
            <a:off x="414036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LEY 6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7" name="20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153-A65B-47B4-9E66-7EB15E7A020E}" type="slidenum">
              <a:rPr b="0" lang="es-PA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8" name="2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r. Joaquin Naranjo Medico y Abog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8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kler M, Fadem P. Successful aging: A disability perspective. J Disabil Policy Stu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; 12(4):229-23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LADE. CEPAL. Familia y solidaridad Intergeneracional: escenarios futuros en políticas de vejez en Pana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9 º Consejo Directivo. 61 Sesión del Comité regional. Washington, DC, EUA, del 28 de septiembre al 2 de octubre de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forme de Contraloría General. Instituto Nacional de Estadística y Censo. República de Panamá. 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N_rev2011_internet –crecimiento envejecimiento-04/02/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 básicos de Salud. Panamá. 2008. Organización Panamericana de Salu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68 de 2003. Publicación en gaceta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2"/>
          <p:cNvSpPr/>
          <p:nvPr/>
        </p:nvSpPr>
        <p:spPr>
          <a:xfrm>
            <a:off x="2627280" y="3573360"/>
            <a:ext cx="457200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a9a9cb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0" name="Rectangle 3"/>
          <p:cNvSpPr/>
          <p:nvPr/>
        </p:nvSpPr>
        <p:spPr>
          <a:xfrm>
            <a:off x="16383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-48240" bIns="-4824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1" name="5 Imagen" descr=""/>
          <p:cNvPicPr/>
          <p:nvPr/>
        </p:nvPicPr>
        <p:blipFill>
          <a:blip r:embed="rId1"/>
          <a:srcRect l="11294" t="1176" r="12815" b="23696"/>
          <a:stretch/>
        </p:blipFill>
        <p:spPr>
          <a:xfrm>
            <a:off x="785880" y="214200"/>
            <a:ext cx="7929360" cy="600084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9" descr="http://www.censos2010.gob.pa/images/grafsmall.jpg"/>
          <p:cNvPicPr/>
          <p:nvPr/>
        </p:nvPicPr>
        <p:blipFill>
          <a:blip r:embed="rId2"/>
          <a:stretch/>
        </p:blipFill>
        <p:spPr>
          <a:xfrm>
            <a:off x="357120" y="4500720"/>
            <a:ext cx="27147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2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c000"/>
                </a:solidFill>
                <a:latin typeface="Tahoma"/>
              </a:rPr>
              <a:t>Evolución de la estructura poblacional. República de Panamá, 1950-2050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4" name="Object 2"/>
          <p:cNvGraphicFramePr/>
          <p:nvPr/>
        </p:nvGraphicFramePr>
        <p:xfrm>
          <a:off x="898560" y="1600200"/>
          <a:ext cx="315576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600200"/>
                    <a:ext cx="31557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6" name="Object 4"/>
          <p:cNvGraphicFramePr/>
          <p:nvPr/>
        </p:nvGraphicFramePr>
        <p:xfrm>
          <a:off x="3143160" y="4071960"/>
          <a:ext cx="3159360" cy="218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4071960"/>
                    <a:ext cx="3159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8" name="Line 6"/>
          <p:cNvSpPr/>
          <p:nvPr/>
        </p:nvSpPr>
        <p:spPr>
          <a:xfrm>
            <a:off x="612720" y="1268280"/>
            <a:ext cx="8207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9" name="Text Box 7"/>
          <p:cNvSpPr/>
          <p:nvPr/>
        </p:nvSpPr>
        <p:spPr>
          <a:xfrm>
            <a:off x="2143080" y="6286680"/>
            <a:ext cx="5067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267dff"/>
                </a:solidFill>
                <a:latin typeface="Tahoma"/>
                <a:ea typeface="Arial"/>
              </a:rPr>
              <a:t>Fuente:  Dirección de Estadística y Censo, Contraloría General de la República. República de Panamá 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0" name="Text Box 8"/>
          <p:cNvSpPr/>
          <p:nvPr/>
        </p:nvSpPr>
        <p:spPr>
          <a:xfrm>
            <a:off x="3786120" y="37638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namá 205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1" name="Text Box 9"/>
          <p:cNvSpPr/>
          <p:nvPr/>
        </p:nvSpPr>
        <p:spPr>
          <a:xfrm>
            <a:off x="1714680" y="12859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namá 195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2" name="Text Box 10"/>
          <p:cNvSpPr/>
          <p:nvPr/>
        </p:nvSpPr>
        <p:spPr>
          <a:xfrm>
            <a:off x="6072120" y="1279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namá 20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3" name="Object 5"/>
          <p:cNvGraphicFramePr/>
          <p:nvPr/>
        </p:nvGraphicFramePr>
        <p:xfrm>
          <a:off x="5214960" y="1571760"/>
          <a:ext cx="3384360" cy="2214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4960" y="1571760"/>
                    <a:ext cx="338436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2a3d7a"/>
                </a:solidFill>
                <a:uFillTx/>
                <a:latin typeface="Times New Roman"/>
              </a:rPr>
              <a:t>Envejecimiento Poblacional 2050 (18%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2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768" name="3 Marcador de fecha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DB7-2761-43CF-8E3F-A94C0940A899}" type="datetime">
              <a:rPr b="0" lang="es-ES" sz="1400" spc="-1" strike="noStrike">
                <a:solidFill>
                  <a:srgbClr val="2a3d7a"/>
                </a:solidFill>
                <a:latin typeface="Times New Roman"/>
                <a:ea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4 Marcador de pie de página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  <a:ea typeface="Arial"/>
              </a:rPr>
              <a:t>Raquel Gutierrez de Mock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0" name="Picture 2" descr=""/>
          <p:cNvPicPr/>
          <p:nvPr/>
        </p:nvPicPr>
        <p:blipFill>
          <a:blip r:embed="rId3"/>
          <a:srcRect l="20311" t="13867" r="19907" b="15588"/>
          <a:stretch/>
        </p:blipFill>
        <p:spPr>
          <a:xfrm>
            <a:off x="395280" y="2060640"/>
            <a:ext cx="4105440" cy="417492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4" descr="https://encrypted-tbn3.google.com/images?q=tbn:ANd9GcRoMZJMWYqahopnrgooQ5Rgjds0EokSp3dzL6Tul1IwBQAoBUC2EA"/>
          <p:cNvPicPr/>
          <p:nvPr/>
        </p:nvPicPr>
        <p:blipFill>
          <a:blip r:embed="rId4"/>
          <a:stretch/>
        </p:blipFill>
        <p:spPr>
          <a:xfrm>
            <a:off x="4643280" y="1557360"/>
            <a:ext cx="4032360" cy="215892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6" descr="https://encrypted-tbn3.google.com/images?q=tbn:ANd9GcRqj-FcYsMiRdUNe_GDWm0SovgzbsK067cVOt8KXcq10VV6-yexAg"/>
          <p:cNvPicPr/>
          <p:nvPr/>
        </p:nvPicPr>
        <p:blipFill>
          <a:blip r:embed="rId5"/>
          <a:stretch/>
        </p:blipFill>
        <p:spPr>
          <a:xfrm>
            <a:off x="4643280" y="357336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Tipos de envejecimient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ahoma"/>
              </a:rPr>
              <a:t>Usual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os lo ten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ahoma"/>
              </a:rPr>
              <a:t>Patológico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últiples enfermedades aceleran el envejecimiento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Exitoso: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medidas preventivas se logra mejor calidad de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nkler M, Fadem P. Successful aging: A disability perspective. J Disabil Policy Studies .2002; 12(4):229-235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imes New Roman"/>
              </a:rPr>
              <a:t>Factores</a:t>
            </a:r>
            <a:r>
              <a:rPr b="1" lang="es-MX" sz="4000" spc="-1" strike="noStrike">
                <a:solidFill>
                  <a:srgbClr val="ffcc00"/>
                </a:solidFill>
                <a:latin typeface="Times New Roman"/>
              </a:rPr>
              <a:t> de Riesgo Soci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066680" y="2205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iveles de escolaridad: </a:t>
            </a: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gresos económicos: </a:t>
            </a: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n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Ley 44 de agosto 2009. Asistencia económ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8" name="Picture 8" descr="743"/>
          <p:cNvPicPr/>
          <p:nvPr/>
        </p:nvPicPr>
        <p:blipFill>
          <a:blip r:embed="rId1"/>
          <a:stretch/>
        </p:blipFill>
        <p:spPr>
          <a:xfrm>
            <a:off x="5003640" y="1484280"/>
            <a:ext cx="3229200" cy="4819680"/>
          </a:xfrm>
          <a:prstGeom prst="rect">
            <a:avLst/>
          </a:prstGeom>
          <a:ln w="0">
            <a:noFill/>
          </a:ln>
        </p:spPr>
      </p:pic>
      <p:sp>
        <p:nvSpPr>
          <p:cNvPr id="1779" name="Line 9"/>
          <p:cNvSpPr/>
          <p:nvPr/>
        </p:nvSpPr>
        <p:spPr>
          <a:xfrm>
            <a:off x="971640" y="1484280"/>
            <a:ext cx="72007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Times New Roman"/>
              </a:rPr>
              <a:t>Población Adulta Mayor en Panamá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Bookman Old Style"/>
              </a:rPr>
              <a:t>349,404   </a:t>
            </a:r>
            <a:r>
              <a:rPr b="0" lang="es-MX" sz="48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Bookman Old Style"/>
              </a:rPr>
              <a:t> 9.8%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27.4</a:t>
            </a:r>
            <a:r>
              <a:rPr b="0" lang="es-MX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Bookman Old Style"/>
              </a:rPr>
              <a:t>%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Bookman Old Style"/>
              </a:rPr>
              <a:t>adultos mayores pobres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80</a:t>
            </a:r>
            <a:r>
              <a:rPr b="1" lang="es-MX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Bookman Old Style"/>
              </a:rPr>
              <a:t>%</a:t>
            </a:r>
            <a:r>
              <a:rPr b="0" lang="es-MX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Bookman Old Style"/>
              </a:rPr>
              <a:t>padecen una o más enfermedades crón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Tasa de mortalidad:   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4.1 </a:t>
            </a:r>
            <a:r>
              <a:rPr b="0" lang="es-MX" sz="1600" spc="-1" strike="noStrike">
                <a:solidFill>
                  <a:srgbClr val="ffff00"/>
                </a:solidFill>
                <a:latin typeface="Bookman Old Style"/>
              </a:rPr>
              <a:t>por cada 10,000 hab</a:t>
            </a: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.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Población Institucionalizada ( </a:t>
            </a:r>
            <a:r>
              <a:rPr b="0" i="1" lang="es-MX" sz="2200" spc="-1" strike="noStrike">
                <a:solidFill>
                  <a:srgbClr val="ffffff"/>
                </a:solidFill>
                <a:latin typeface="Bookman Old Style"/>
              </a:rPr>
              <a:t>asilos</a:t>
            </a:r>
            <a:r>
              <a:rPr b="0" lang="es-MX" sz="2200" spc="-1" strike="noStrike">
                <a:solidFill>
                  <a:srgbClr val="ffffff"/>
                </a:solidFill>
                <a:latin typeface="Bookman Old Style"/>
              </a:rPr>
              <a:t> ):     </a:t>
            </a:r>
            <a:r>
              <a:rPr b="0" lang="es-MX" sz="2200" spc="-1" strike="noStrike">
                <a:solidFill>
                  <a:srgbClr val="ffff00"/>
                </a:solidFill>
                <a:latin typeface="Bookman Old Style"/>
              </a:rPr>
              <a:t>0.4 </a:t>
            </a:r>
            <a:r>
              <a:rPr b="0" lang="es-MX" sz="1600" spc="-1" strike="noStrike">
                <a:solidFill>
                  <a:srgbClr val="ffff00"/>
                </a:solidFill>
                <a:latin typeface="Bookman Old Style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2" name="Text Box 6"/>
          <p:cNvSpPr/>
          <p:nvPr/>
        </p:nvSpPr>
        <p:spPr>
          <a:xfrm>
            <a:off x="1205640" y="5965920"/>
            <a:ext cx="7049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Informe Nacional sobre la Situación de la Población Adulta May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en la República, por sexo y edad. 2002 Estadisticas Vitales. Contraloría de la Rep. Panamá.,</a:t>
            </a:r>
            <a:r>
              <a:rPr b="0" lang="es-PA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Line 8"/>
          <p:cNvSpPr/>
          <p:nvPr/>
        </p:nvSpPr>
        <p:spPr>
          <a:xfrm>
            <a:off x="900000" y="1341360"/>
            <a:ext cx="7056720" cy="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4" name="Rectangle 9"/>
          <p:cNvSpPr/>
          <p:nvPr/>
        </p:nvSpPr>
        <p:spPr>
          <a:xfrm>
            <a:off x="971640" y="3645000"/>
            <a:ext cx="7488000" cy="20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48920" y="-90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Times New Roman"/>
              </a:rPr>
              <a:t>Edad y Discapacida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26560" y="3777840"/>
            <a:ext cx="7543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usas</a:t>
            </a: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4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66"/>
                </a:solidFill>
                <a:latin typeface="Times New Roman"/>
              </a:rPr>
              <a:t>Deficiencias fís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66"/>
                </a:solidFill>
                <a:latin typeface="Times New Roman"/>
              </a:rPr>
              <a:t>Alteración de sentidos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:  Sordera, ceguera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66"/>
                </a:solidFill>
                <a:latin typeface="Times New Roman"/>
              </a:rPr>
              <a:t>Procesos degenerativos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: artritis, artrosi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66"/>
                </a:solidFill>
                <a:latin typeface="Times New Roman"/>
              </a:rPr>
              <a:t>Secuelas</a:t>
            </a: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: HTA, DM II, Alzheimer, Depresión y Aisl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916920" y="5965920"/>
            <a:ext cx="7049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Informe Nacional sobre la Situación de la Población Adulta May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en la República, por sexo y edad. 2002 Estadisticas Vitales. Contraloría de la Rep. Panamá.,</a:t>
            </a:r>
            <a:r>
              <a:rPr b="0" lang="es-PA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8" name="Line 5"/>
          <p:cNvSpPr/>
          <p:nvPr/>
        </p:nvSpPr>
        <p:spPr>
          <a:xfrm>
            <a:off x="900000" y="5877000"/>
            <a:ext cx="705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9" name="Object 6"/>
          <p:cNvGraphicFramePr/>
          <p:nvPr/>
        </p:nvGraphicFramePr>
        <p:xfrm>
          <a:off x="1487520" y="1197000"/>
          <a:ext cx="2724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197000"/>
                    <a:ext cx="2724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1" name="Object 7"/>
          <p:cNvGraphicFramePr/>
          <p:nvPr/>
        </p:nvGraphicFramePr>
        <p:xfrm>
          <a:off x="4697280" y="1125360"/>
          <a:ext cx="284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1125360"/>
                    <a:ext cx="284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3" name="Text Box 9"/>
          <p:cNvSpPr/>
          <p:nvPr/>
        </p:nvSpPr>
        <p:spPr>
          <a:xfrm>
            <a:off x="1916640" y="236232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32.5</a:t>
            </a: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4" name="Text Box 10"/>
          <p:cNvSpPr/>
          <p:nvPr/>
        </p:nvSpPr>
        <p:spPr>
          <a:xfrm>
            <a:off x="5230440" y="270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Tahoma"/>
              </a:rPr>
              <a:t>69.5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5" name="Text Box 11"/>
          <p:cNvSpPr/>
          <p:nvPr/>
        </p:nvSpPr>
        <p:spPr>
          <a:xfrm>
            <a:off x="2106360" y="12589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&gt; 60 a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6" name="Text Box 12"/>
          <p:cNvSpPr/>
          <p:nvPr/>
        </p:nvSpPr>
        <p:spPr>
          <a:xfrm>
            <a:off x="5419440" y="1197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&gt; 70 a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7" name="Text Box 16"/>
          <p:cNvSpPr/>
          <p:nvPr/>
        </p:nvSpPr>
        <p:spPr>
          <a:xfrm>
            <a:off x="4140360" y="1666800"/>
            <a:ext cx="739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66"/>
                </a:solidFill>
                <a:latin typeface="Tahoma"/>
              </a:rPr>
              <a:t>57/6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U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B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O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66"/>
                </a:solidFill>
                <a:latin typeface="Tahoma"/>
              </a:rPr>
              <a:t>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8" name="Line 17"/>
          <p:cNvSpPr/>
          <p:nvPr/>
        </p:nvSpPr>
        <p:spPr>
          <a:xfrm>
            <a:off x="1332000" y="1052640"/>
            <a:ext cx="626436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3:30:19Z</dcterms:created>
  <dc:creator>AMAKEVIN, S.A.</dc:creator>
  <dc:description/>
  <dc:language>en-US</dc:language>
  <cp:lastModifiedBy>Elsa Arenas</cp:lastModifiedBy>
  <cp:lastPrinted>2009-04-22T19:24:48Z</cp:lastPrinted>
  <dcterms:modified xsi:type="dcterms:W3CDTF">2014-06-17T14:57:55Z</dcterms:modified>
  <cp:revision>202</cp:revision>
  <dc:subject/>
  <dc:title>Enfermedades Comunes del Adulto May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